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011-459D-44D8-B940-D7289176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5D4-1F1D-472B-978C-57E88896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742-C86D-4078-86C2-0FE771CB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25A-D4C4-4419-ACE7-CC88BA4F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85B-4A28-4BDA-92A6-B0172E99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19E-6650-4469-B67E-7226D549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DDD-823E-49DC-B2D6-F434C1FF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2B7-5622-4D15-B9F9-BC3007E6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B4A-3429-4375-BE53-F377B60C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54F-D0E2-463A-8B8D-C77A80DF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DB9-B005-4B4E-AA32-9BDF65D2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341-8FFF-4EEB-8204-C0A8A745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E30B-544F-4196-8AED-76D8FA01B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-ToB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nnifer J. Vend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by James Ris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%L and %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 at the beginning of utterance or post-pausal medial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wL used when phrase begins with an accented mora or a long syl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536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0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5016600" cy="5668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5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biguous H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00200"/>
            <a:ext cx="399096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68840" y="1600200"/>
            <a:ext cx="399744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8769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6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22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L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278240" y="1295280"/>
            <a:ext cx="4451400" cy="502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288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50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nt Uncertainty (*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281480" y="1295280"/>
            <a:ext cx="4425840" cy="502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60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 degrees of break 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very small disj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consecutiv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 medium disj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 strong disjuncture between adjacent words or between a word and si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 mi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 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  disfl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 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s on break ind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 related phenomena: final F0 lowering, segmental lengthening, creaky voice, amplitude lowering, long pauses, stylized “finality” cont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00536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29040" y="1600200"/>
            <a:ext cx="3981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1055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41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56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ese To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use with Tokyo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t with design principles of English To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accent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on location of tones, and phrase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ve tiers: tones, words, break indices, finality, miscell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086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*+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03856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1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*+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ese has lexical ac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 word is accented, place H*+L on the accented syl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accent is early or late, place &gt; on the early accent or &lt; on the late accent, and mark H*+L where it should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0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te Ac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94040" y="609480"/>
            <a:ext cx="487224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7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rasal H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6384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0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undary 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L% and wL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%L and %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L% and wL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 at end of accentual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L% used when following phrase (without pause) is initially accented or begins with a long syll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L% indicates that the L% was not able to be fully realized and is unders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7:17:56Z</dcterms:created>
  <dc:creator>Jimmy</dc:creator>
  <dc:description/>
  <dc:language>en-US</dc:language>
  <cp:lastModifiedBy>Jimmy</cp:lastModifiedBy>
  <dcterms:modified xsi:type="dcterms:W3CDTF">2005-03-31T01:56:16Z</dcterms:modified>
  <cp:revision>10</cp:revision>
  <dc:subject/>
  <dc:title>J-ToBi</dc:title>
</cp:coreProperties>
</file>