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6D5-E62B-4C81-9931-02DB59FE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EE0-6B23-4AD7-AC6F-F6E7DDC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C35-E210-4A9F-B5B2-08F52F49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511-9EFD-422C-A312-4A613940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D96-B5BF-464F-95B8-D1B18BE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28A-A46E-4226-8434-3A41093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D79-264A-469C-8766-ABB031E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DEA-9A78-4D96-B3A9-0369CEAD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A41-9ED7-4B37-8092-258DD9D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140-CA93-4D08-8706-351258A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B20-0489-4A63-AEFB-801BC19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2E4-FBAE-4B2D-9EF5-921387C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92D-F6D3-4E07-941A-BBA9D4C8BD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2B41-7C65-4591-B802-FFB0532D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syrdal&amp;jilka04.pdf" TargetMode="External"/><Relationship Id="rId2" Type="http://schemas.openxmlformats.org/officeDocument/2006/relationships/hyperlink" Target="http://www.cs.columbia.edu/~julia/papers/syrdal&amp;jilka04.pdf" TargetMode="External"/><Relationship Id="rId3" Type="http://schemas.openxmlformats.org/officeDocument/2006/relationships/hyperlink" Target="http://www.cs.columbia.edu/~julia/papers/syrdal&amp;jilka04.pdf" TargetMode="External"/><Relationship Id="rId4" Type="http://schemas.openxmlformats.org/officeDocument/2006/relationships/hyperlink" Target="http://www.cs.columbia.edu/~julia/papers/syrdal&amp;jilka04.pdf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dohertyetal04.pdf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star.wav" TargetMode="External"/><Relationship Id="rId2" Type="http://schemas.microsoft.com/office/2007/relationships/media" Target="file:///tmp/home/.config/libreoffice/4/user/gallery/hstar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star.wav" TargetMode="External"/><Relationship Id="rId5" Type="http://schemas.microsoft.com/office/2007/relationships/media" Target="file:///tmp/home/.config/libreoffice/4/user/gallery/lstar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lplush.wav" TargetMode="External"/><Relationship Id="rId8" Type="http://schemas.microsoft.com/office/2007/relationships/media" Target="file:///tmp/home/.config/libreoffice/4/user/gallery/lplush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hplush.wav" TargetMode="External"/><Relationship Id="rId11" Type="http://schemas.microsoft.com/office/2007/relationships/media" Target="file:///tmp/home/.config/libreoffice/4/user/gallery/hplush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step.wav" TargetMode="External"/><Relationship Id="rId2" Type="http://schemas.microsoft.com/office/2007/relationships/media" Target="file:///tmp/home/.config/libreoffice/4/user/gallery/dstep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ovely.wav" TargetMode="External"/><Relationship Id="rId5" Type="http://schemas.microsoft.com/office/2007/relationships/media" Target="file:///tmp/home/.config/libreoffice/4/user/gallery/lovely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flap.wav" TargetMode="External"/><Relationship Id="rId8" Type="http://schemas.microsoft.com/office/2007/relationships/media" Target="file:///tmp/home/.config/libreoffice/4/user/gallery/flap.wav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termh.wav" TargetMode="External"/><Relationship Id="rId2" Type="http://schemas.microsoft.com/office/2007/relationships/media" Target="file:///tmp/home/.config/libreoffice/4/user/gallery/intermh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lll.wav" TargetMode="External"/><Relationship Id="rId5" Type="http://schemas.microsoft.com/office/2007/relationships/media" Target="file:///tmp/home/.config/libreoffice/4/user/gallery/lll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hhh.wav" TargetMode="External"/><Relationship Id="rId8" Type="http://schemas.microsoft.com/office/2007/relationships/media" Target="file:///tmp/home/.config/libreoffice/4/user/gallery/hhh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interml.wav" TargetMode="External"/><Relationship Id="rId11" Type="http://schemas.microsoft.com/office/2007/relationships/media" Target="file:///tmp/home/.config/libreoffice/4/user/gallery/interml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melia3.wav" TargetMode="External"/><Relationship Id="rId2" Type="http://schemas.microsoft.com/office/2007/relationships/media" Target="file:///tmp/home/.config/libreoffice/4/user/gallery/amelia3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amelia4.wav" TargetMode="External"/><Relationship Id="rId5" Type="http://schemas.microsoft.com/office/2007/relationships/media" Target="file:///tmp/home/.config/libreoffice/4/user/gallery/amelia4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amelia5.wav" TargetMode="External"/><Relationship Id="rId8" Type="http://schemas.microsoft.com/office/2007/relationships/media" Target="file:///tmp/home/.config/libreoffice/4/user/gallery/amelia5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amelia6.wav" TargetMode="External"/><Relationship Id="rId11" Type="http://schemas.microsoft.com/office/2007/relationships/media" Target="file:///tmp/home/.config/libreoffice/4/user/gallery/amelia6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tmp/home/.config/libreoffice/4/user/gallery/amelia8.wav" TargetMode="External"/><Relationship Id="rId14" Type="http://schemas.microsoft.com/office/2007/relationships/media" Target="file:///tmp/home/.config/libreoffice/4/user/gallery/amelia8.wav" TargetMode="External"/><Relationship Id="rId15" Type="http://schemas.openxmlformats.org/officeDocument/2006/relationships/image" Target="../media/image1.png"/><Relationship Id="rId16" Type="http://schemas.openxmlformats.org/officeDocument/2006/relationships/audio" Target="file:///tmp/home/.config/libreoffice/4/user/gallery/amelia9.wav" TargetMode="External"/><Relationship Id="rId17" Type="http://schemas.microsoft.com/office/2007/relationships/media" Target="file:///tmp/home/.config/libreoffice/4/user/gallery/amelia9.wav" TargetMode="External"/><Relationship Id="rId18" Type="http://schemas.openxmlformats.org/officeDocument/2006/relationships/image" Target="../media/image1.png"/><Relationship Id="rId19" Type="http://schemas.openxmlformats.org/officeDocument/2006/relationships/audio" Target="file:///tmp/home/.config/libreoffice/4/user/gallery/amelia10.wav" TargetMode="External"/><Relationship Id="rId20" Type="http://schemas.microsoft.com/office/2007/relationships/media" Target="file:///tmp/home/.config/libreoffice/4/user/gallery/amelia10.wav" TargetMode="Externa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melia13.wav" TargetMode="External"/><Relationship Id="rId2" Type="http://schemas.microsoft.com/office/2007/relationships/media" Target="file:///tmp/home/.config/libreoffice/4/user/gallery/amelia13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amelia14.wav" TargetMode="External"/><Relationship Id="rId5" Type="http://schemas.microsoft.com/office/2007/relationships/media" Target="file:///tmp/home/.config/libreoffice/4/user/gallery/amelia14.wav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rtleby.com/68/45/33945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columbia.edu/~julia/papers/hedberg-sosa02.pdf" TargetMode="External"/><Relationship Id="rId2" Type="http://schemas.openxmlformats.org/officeDocument/2006/relationships/hyperlink" Target="http://www.cs.columbia.edu/~julia/papers/hedberg-sosa02.pd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ing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384-521E-4570-B1C5-B2CF9783CF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7E1AE-265E-49A7-AF00-E2520EF1EB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rda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&amp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lk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whq’s and ynq’s produced most naturally (for TT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hypothesis:  whq’s fall and ynq’s rise in Americ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proach:  production and percep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(professional) speakers (5F, 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ranscripts of actual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5FB-15BA-41DB-8D51-19F1C00853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8BDCB-CD50-404F-ABF6-29CEBCD00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(ToBI) labeling from pitch tracks of extrac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q’s rose in 83% of cases for females and 53% for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q’s always fell for females and fell 79% of time for male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:  acceptability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choice, 12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: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536-9848-4175-97B1-F450772871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91736-3381-48D9-B050-A4D8DB8E6D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s of ynq and whq’s with same voice/different in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natural (9 ynq’s, 8 whq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ubjects (6 and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n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peech:  people preferred standard rise (L* H- H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speech: no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peech:  people preferred falling contours (L- L%) to rising (H-H%) and slightly to ‘continuation rise’ (L- H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: no p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C8F-8883-4DAB-8B27-5F47382D0E0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247EA-4925-483C-9EE6-B69BB84577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estions were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ofessional speakers a good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vs. spontaneous speech?  For T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 results for synthetic spe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66D-A688-4157-A1C6-C0DE778842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7E8FD-4F9A-4774-876B-91DB494D1B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herty et al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eople process intonation, e.g., in rising questions vs. falling statements vs. falling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brain imaging (fM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‘prosody’ portion of the b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ectors is it ‘close’ to and what is their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articular contours have particular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39A-7B8C-4A13-9BFB-F036435C25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FB6CD-6C7B-4918-BC81-05FC90705A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subjects (4M, 7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triples, of which each subjects heard only 1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talking to her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she talking to he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talking to he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Monitoring: Is this a question or a stat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 Increase in activation when subjects made judgments about tokens w/ rising intonation but not f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25F-C621-47F5-9FD1-55B8766CA4D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1ACD6-ABFB-41C3-AEED-79A561F59F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processing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 processing? 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the rising contour as a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lesion studies to see if people with damage in these areas can interpret rising contou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4CB-A205-4727-AC27-036F1B3ABB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6AF7-D2B2-40FD-AE3F-4550579A7A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sing inverted questions?  “Was she talking to her fath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EC9-86E1-4FEB-8E9D-649A88508B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A9DBA-815A-4B71-8995-AE9EE785B8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errehumbert &amp; Hirschberg ’90/’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sitional account of intonational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intuition and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s conv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current, prior, and following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ropositional content and mutu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meanings are composites of the meanings of thei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ch acc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rase acc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undary 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ACB-63BA-4B6D-8EBD-8E3176A6EB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E2968-955A-4141-9508-377D903B98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ch Accent/Prominence in Pierrehumbert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tems are made intonationally prominent and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ativ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n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*+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oped, late rise (uncertainty/ incredu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+H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rise to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stive focu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+L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onto stress (implied famili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*+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from a high stress (common downstepped contou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5335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533520" y="5029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1C7-90AF-40C9-8B97-909641C2D3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63EE4-84CD-405A-AAA3-0FD7DB3C10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7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1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 to studying contour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people 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contour X convey a different meaning from contour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contour X used more often in context Z than contou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pite what people say/think, not all phenomena X are uttered with contou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evidence could we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boratory experiments:  production,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rpus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F30-F0BF-4DB6-8B48-405B7992F1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0B99C-5395-4861-B18F-EC06123472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676520"/>
            <a:ext cx="7924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ownstepped acc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*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+H*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*+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gree of promin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phrase:  Hi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oss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7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9144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718-F1A0-4FC8-A1C5-4DE15006A9C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8F125-4AD8-43BD-927F-0A2AC8A982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9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5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3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65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Phrasing in Pierrehumbert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’ of phra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phrase: one or more pitch accents plus a phrase accent (H-      or L-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phrase: 1 or more intermediate phrases + boundary tone (H%     or L%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7816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960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62485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077320" y="2286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D73-05DF-4F9C-B63D-8B651087F1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26F90-554F-4F8A-B758-0DBAA8276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8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  <p:seq>
              <p:cTn id="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4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  <p:seq>
              <p:cTn id="5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7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0880" y="457200"/>
            <a:ext cx="8458200" cy="5715000"/>
            <a:chOff x="380880" y="457200"/>
            <a:chExt cx="8458200" cy="5715000"/>
          </a:xfrm>
        </p:grpSpPr>
        <p:sp>
          <p:nvSpPr>
            <p:cNvPr id="88" name=""/>
            <p:cNvSpPr/>
            <p:nvPr/>
          </p:nvSpPr>
          <p:spPr>
            <a:xfrm>
              <a:off x="7010280" y="4495680"/>
              <a:ext cx="18288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495680"/>
              <a:ext cx="1904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76720" y="4495680"/>
              <a:ext cx="18288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4495680"/>
              <a:ext cx="1752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495680"/>
              <a:ext cx="11430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*+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0280" y="2743200"/>
              <a:ext cx="1828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520" y="2743200"/>
              <a:ext cx="19047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76720" y="2743200"/>
              <a:ext cx="1828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3880" y="2743200"/>
              <a:ext cx="17528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743200"/>
              <a:ext cx="1143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0280" y="1219320"/>
              <a:ext cx="1828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1219320"/>
              <a:ext cx="19047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1219320"/>
              <a:ext cx="1828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1219320"/>
              <a:ext cx="1752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1219320"/>
              <a:ext cx="1143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45720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57200"/>
              <a:ext cx="1904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6720" y="45720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457200"/>
              <a:ext cx="175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457200"/>
              <a:ext cx="1143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457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121932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274320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4956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6172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55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02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3908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76520" y="1676520"/>
            <a:ext cx="1371600" cy="914400"/>
            <a:chOff x="1676520" y="1676520"/>
            <a:chExt cx="1371600" cy="914400"/>
          </a:xfrm>
        </p:grpSpPr>
        <p:sp>
          <p:nvSpPr>
            <p:cNvPr id="120" name=""/>
            <p:cNvSpPr/>
            <p:nvPr/>
          </p:nvSpPr>
          <p:spPr>
            <a:xfrm>
              <a:off x="1676520" y="167652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760" y="16765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36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2900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676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19720" y="2133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57800" y="1676520"/>
            <a:ext cx="1371600" cy="0"/>
            <a:chOff x="5257800" y="1676520"/>
            <a:chExt cx="1371600" cy="0"/>
          </a:xfrm>
        </p:grpSpPr>
        <p:sp>
          <p:nvSpPr>
            <p:cNvPr id="129" name=""/>
            <p:cNvSpPr/>
            <p:nvPr/>
          </p:nvSpPr>
          <p:spPr>
            <a:xfrm>
              <a:off x="5257800" y="16765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5000" y="1676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238880" y="1676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96080" y="1600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153280" y="12949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1295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95680" y="3809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267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150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01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229600" y="3048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00200" y="5029200"/>
            <a:ext cx="1447920" cy="838080"/>
            <a:chOff x="1600200" y="5029200"/>
            <a:chExt cx="1447920" cy="838080"/>
          </a:xfrm>
        </p:grpSpPr>
        <p:sp>
          <p:nvSpPr>
            <p:cNvPr id="150" name=""/>
            <p:cNvSpPr/>
            <p:nvPr/>
          </p:nvSpPr>
          <p:spPr>
            <a:xfrm>
              <a:off x="1600200" y="58672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981080" y="502920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50292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52680" y="5029200"/>
            <a:ext cx="914400" cy="838080"/>
            <a:chOff x="3352680" y="5029200"/>
            <a:chExt cx="914400" cy="838080"/>
          </a:xfrm>
        </p:grpSpPr>
        <p:sp>
          <p:nvSpPr>
            <p:cNvPr id="156" name=""/>
            <p:cNvSpPr/>
            <p:nvPr/>
          </p:nvSpPr>
          <p:spPr>
            <a:xfrm>
              <a:off x="3352680" y="58672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733560" y="502920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620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0292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257800" y="5867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638680" y="5029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50292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5867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543800" y="5029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029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0" y="5486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305920" y="51811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5438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23623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3962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72388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27432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4572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F95-DA83-4A6E-8016-BAE6C57A8C3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CB885-2A55-45DC-B8DF-42224E2B4D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70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5"/>
                </p:tgtEl>
              </p:cMediaNode>
            </p:audio>
            <p:seq>
              <p:cTn id="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2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6"/>
                </p:tgtEl>
              </p:cMediaNode>
            </p:audio>
            <p:seq>
              <p:cTn id="7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54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7"/>
                </p:tgtEl>
              </p:cMediaNode>
            </p:audio>
            <p:seq>
              <p:cTn id="7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7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8"/>
                </p:tgtEl>
              </p:cMediaNode>
            </p:audio>
            <p:seq>
              <p:cTn id="8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3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  <p:seq>
              <p:cTn id="8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5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0"/>
                </p:tgtEl>
              </p:cMediaNode>
            </p:audio>
            <p:seq>
              <p:cTn id="9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07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1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04920" y="457200"/>
            <a:ext cx="8458200" cy="5715000"/>
            <a:chOff x="304920" y="457200"/>
            <a:chExt cx="8458200" cy="5715000"/>
          </a:xfrm>
        </p:grpSpPr>
        <p:sp>
          <p:nvSpPr>
            <p:cNvPr id="183" name=""/>
            <p:cNvSpPr/>
            <p:nvPr/>
          </p:nvSpPr>
          <p:spPr>
            <a:xfrm>
              <a:off x="6858000" y="4495680"/>
              <a:ext cx="19051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495680"/>
              <a:ext cx="1752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2680" y="4495680"/>
              <a:ext cx="1752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00200" y="4495680"/>
              <a:ext cx="1752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4495680"/>
              <a:ext cx="1295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*+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2743200"/>
              <a:ext cx="1905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520" y="2743200"/>
              <a:ext cx="1752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2680" y="2743200"/>
              <a:ext cx="17528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2743200"/>
              <a:ext cx="1752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743200"/>
              <a:ext cx="1295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+L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0" y="1219320"/>
              <a:ext cx="19051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219320"/>
              <a:ext cx="17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1219320"/>
              <a:ext cx="1752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0200" y="1219320"/>
              <a:ext cx="17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920" y="1219320"/>
              <a:ext cx="1295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+H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0" y="457200"/>
              <a:ext cx="1905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457200"/>
              <a:ext cx="1752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52680" y="457200"/>
              <a:ext cx="175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H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0200" y="457200"/>
              <a:ext cx="1752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-L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45720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457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121932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274320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920" y="44956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617220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92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5268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45720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63120" y="45720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6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051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600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65760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16002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16002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62920" y="1600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600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077320" y="17521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52480" y="3124080"/>
            <a:ext cx="1371600" cy="1143000"/>
            <a:chOff x="1752480" y="3124080"/>
            <a:chExt cx="1371600" cy="1143000"/>
          </a:xfrm>
        </p:grpSpPr>
        <p:sp>
          <p:nvSpPr>
            <p:cNvPr id="239" name=""/>
            <p:cNvSpPr/>
            <p:nvPr/>
          </p:nvSpPr>
          <p:spPr>
            <a:xfrm>
              <a:off x="17524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336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8280" y="36576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880" y="42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29000" y="3124080"/>
            <a:ext cx="1523880" cy="1143000"/>
            <a:chOff x="3429000" y="3124080"/>
            <a:chExt cx="1523880" cy="1143000"/>
          </a:xfrm>
        </p:grpSpPr>
        <p:sp>
          <p:nvSpPr>
            <p:cNvPr id="245" name=""/>
            <p:cNvSpPr/>
            <p:nvPr/>
          </p:nvSpPr>
          <p:spPr>
            <a:xfrm>
              <a:off x="342900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36576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4267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648320" y="365724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00600" y="36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1480" y="3124080"/>
            <a:ext cx="1447920" cy="533520"/>
            <a:chOff x="5181480" y="3124080"/>
            <a:chExt cx="1447920" cy="533520"/>
          </a:xfrm>
        </p:grpSpPr>
        <p:sp>
          <p:nvSpPr>
            <p:cNvPr id="253" name=""/>
            <p:cNvSpPr/>
            <p:nvPr/>
          </p:nvSpPr>
          <p:spPr>
            <a:xfrm>
              <a:off x="51814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312408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36576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657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934320" y="3124080"/>
            <a:ext cx="1676160" cy="533520"/>
            <a:chOff x="6934320" y="3124080"/>
            <a:chExt cx="1676160" cy="533520"/>
          </a:xfrm>
        </p:grpSpPr>
        <p:sp>
          <p:nvSpPr>
            <p:cNvPr id="258" name=""/>
            <p:cNvSpPr/>
            <p:nvPr/>
          </p:nvSpPr>
          <p:spPr>
            <a:xfrm>
              <a:off x="693432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62920" y="3124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3657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01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001000" y="32004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53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52480" y="46483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6483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5181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5181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6483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464832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5181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5181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4280" y="51814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724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47242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2578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934320" y="4724280"/>
            <a:ext cx="1752480" cy="533520"/>
            <a:chOff x="6934320" y="4724280"/>
            <a:chExt cx="1752480" cy="533520"/>
          </a:xfrm>
        </p:grpSpPr>
        <p:sp>
          <p:nvSpPr>
            <p:cNvPr id="281" name=""/>
            <p:cNvSpPr/>
            <p:nvPr/>
          </p:nvSpPr>
          <p:spPr>
            <a:xfrm>
              <a:off x="7239240" y="47242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1520" y="52578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47242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44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077320" y="48006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572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68E-1462-4C6D-90F2-31452BF1E3A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3BA17-64AB-4428-AA45-61C78F7DCD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7"/>
                </p:tgtEl>
              </p:cMediaNode>
            </p:audio>
            <p:seq>
              <p:cTn id="10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912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8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ontours that share prosodic phenomena convey similar meanings, and how those that differ in phenomena, differ in meaning -- based on their into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* L- L% vs. H* -H L% vs. H* H- H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’m from Muskog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* H- H% vs. H* H- H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0A6-51EC-4F36-872C-51B6A8A97E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EEDDB-8A1F-4FE0-AC30-328DBD0391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 Ac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information status about discourse references, modifiers, predicates and their relationship to S and H’s mutu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*: X is new and pred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y name is H* Mark H* Liberman H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*: X is salient but not part of the speaker’s pr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* Stalin was L* right H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*+L: X is inferable from S and H’s mutual beliefs and part of the pr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*+L Don’t H*+L forget to H*+L take your H* lunch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0C9-9BDA-426B-A582-A3FEB06833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127E1-4ECA-42CB-AF81-C93FC09A8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+L* (H+!H*): X is inferable from S and H’s mutual beliefs b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ot part of pr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he’s H+L* teething L-L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*+H: X is part of a scale but not part of the pr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 fed the L*+H goldfish L-H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+H*: X is part of a scale and in S and H’s mutual beliefs (narrow fo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 don’t L+H* want L+H* shrimp L-H% I want L+H* lobster L-L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6C8-8C0D-4242-843C-0A29488265A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FC9A3-EA2C-4170-B130-39EC9B3CFF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Ac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y relationships among intermediate phrases, such as which form part of larger interpret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: X L- Y means X and Y are interpreted separately from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 you want a sandwich L- or would you like a s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: X H- Y means X and Y should be interpret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 you want apple juice H- or orange ju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E3F-2D6C-4903-83E7-BF44273BDC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85087-586E-42AB-A190-AC032BBFC6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the directionality of interpretation of intonational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%: X H% Y means interpret X wrt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You made seven errors L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at a shame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 don’t have time to continu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%: X L% Y means no directionality of interpretation sug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You made seven errors L-L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at a shame L-H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 don’t have time to continu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73F-5233-4A43-BE59-3F5F892D83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E7F5D-A1E3-4BC2-811D-C4CE55E02F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olv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meanings of pitch accents in a single phrase comb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* blackboard’s painted H* orange L-L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istinguish the meaning of a phrase accent from that of a boundary tone – especially in intonational phrases with a single intermediate phr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* H-L% (plateau) vs. H* H-H% (high-rise question) vs. H* L-L% (decl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framework useful for investigating contour meaning?  E.g. downstepped contours, H+L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4A4-DEF2-4AD0-894C-119C38E50E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52941-26B1-4C3B-AEA9-A55682906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atures can we look at and how do we obta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onation label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oustic/prosodic analysis by automat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ch tracking, pause detection, intensity, duration, speaking rat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utational linguistic techniques to extract transcript-based (text)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-of-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ntence lengt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echniques do we use for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stical methods (Splus, Mat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 learn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B0D-2B48-4EF0-95BF-5CDF68107E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5C238-6B2F-4E30-AAD8-7BE2E03E8F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vi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we ge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D56-2285-409F-AA67-A4E161A9458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0AA91-D82C-4466-9DCE-7E308A5FDC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bout Text-to-Speech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DEF-7B42-4F95-B62C-8FA92FBE12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D7C5E-7A1A-4530-AD88-348CF77A7F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ampl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Corpus: Hedberg &amp; Sosa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spective, observational: Wilson 1993, Pierrehumbert &amp; Hirschberg 1990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-- Production/Perception: Syrdal &amp; Jilka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– Brain Imaging (e.g. fMRI): Doherty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80F-5E85-4CB5-ADA9-2AC817EBD7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0E87-6EC5-495F-A11A-5695B796B3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crip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fall and questions ris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lson 199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44C-A0A5-4253-95F0-01F0CFC639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64C9A-61D3-4046-8C70-A660738C4A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dbe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&amp; Sosa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 saw John?/Who didn’t see Joh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d John leave?/Didn’t John le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yes-no and wh-questions uttered and how might we explain dif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nuclear st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semantic ‘focus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‘question words’ accented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whq’s and 38 ynq’s from the McLaughlin Group and Washingto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386-8B1B-465C-881A-2831273548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A973-4BC4-490E-8813-51811BA50A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labeling (ToBI) from pitch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focus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istributions of features with ques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words (60%) and neg aux in negative ynq’s (89%) most often uttered with L+H* accent (‘contrastive’ accent) --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x in positive ynq’s often deaccented (41%) or realized with L* (17%) accen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338-B3A5-4DBD-AE5E-074D5C5E19F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6F7A-EB7C-4AAF-96EE-B616742FA3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nq’s generally uttered w/ falling or level intonation, not rising (6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-q’s most often uttered with falling (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us of interrogation is accented in wh-q’s and in negative ynq’s to “signal interrogative status of sentence” – but not in positive ynq’s “due to need to highlight a following el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nq’s and wh-q’s sometimes rise and sometimes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59B-ACF6-4DE0-BEB2-9D7B63B6A4E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3CC52-AE14-4083-8ED6-09E7D4E215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good corpus for this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B67-8110-46B8-8536-09AAF7F9E2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18A99-75AB-420B-B6A7-E8A41CA034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6-02-12T20:36:08Z</dcterms:modified>
  <cp:revision>360</cp:revision>
  <dc:subject/>
  <dc:title>No Slide Title</dc:title>
</cp:coreProperties>
</file>