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AF0C-E45F-48B8-B8CF-96C5B2D4A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E1F7-4BE1-470A-9102-1887F9225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9C5D-A165-4B95-BD91-13308F2CE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AD4A-0A56-4CAC-BCCF-5939672D6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44B8-572E-48C2-9999-C732369CA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D81B-9F5C-4EBD-AA3D-8B6C7C1C2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ADD3-2BEB-4A72-AC8C-8D4845741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FAD2-74D0-4692-A63B-66540AEA8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5759-289D-4584-9D79-F4209B427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1285-102B-40D8-91B4-9835AA15A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D115-25C3-4EB6-93D8-534523D8C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A7FC-12CF-4317-96A7-608AB53BD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53553-C251-4049-97BE-14CE5637049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A9BD6-BA89-4D7B-86CC-2B62E0172B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news.bbc.co.uk/onthisday/low/dates/stories/september/7/newsid_2502000/2502781.stm" TargetMode="External"/><Relationship Id="rId2" Type="http://schemas.openxmlformats.org/officeDocument/2006/relationships/hyperlink" Target="http://www.margaretthatcher.org/" TargetMode="External"/><Relationship Id="rId3" Type="http://schemas.openxmlformats.org/officeDocument/2006/relationships/hyperlink" Target="http://newswww.bbc.net.uk/1/hi/uk_politics/4385581.stm" TargetMode="External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bbc.co.uk/bbcfour/audiointerviews/profilepages/thatcherm1.shtml" TargetMode="External"/><Relationship Id="rId2" Type="http://schemas.openxmlformats.org/officeDocument/2006/relationships/hyperlink" Target="http://www.bbc.co.uk/bbcfour/audiointerviews/profilepages/thatcherm1.shtml" TargetMode="External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1.cs.columbia.edu/~julia/papers/limsi04.pdf" TargetMode="External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2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urn-Taking, Grounding and Speaker Se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lia Hirschbe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A07 35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A579-A81C-410C-83B8-5BC00D03784A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AA439F-7E8D-483E-ADDC-1CBBEF7FFBE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where is the intent?  Purpo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4970-4382-4189-910B-ECF9D6FFEF05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110D01-DB6B-4230-AAFF-BABB65D005B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nding Approaches to Conversational Mode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rsation is a joint process through which S and H are constantly negotiating a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ommon groun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Stalnaker ’78, Clark ’96 inter ali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f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mutual beli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Arial"/>
              </a:rPr>
              <a:t>Principle of Closu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agents performing an action require evidence that they have succeeded (Norman ’88)…or n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rk &amp; Schaeffer ’8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resent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by S) and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ccepta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by H) v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inued attention, relevant next contribution, acknowledgement/assessment, demonstration, disp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4758-1C08-4329-9576-D3645713E7A9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132375-6491-46C4-8ADE-B8862ED8FF5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: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John Stewart is my favorite comedi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: {continued attention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: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The Daily Show is not to mis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{rel next contrib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: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Mhmm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{acknowledgemen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: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He’s the funniest person you know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{demonstr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: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Your favorite comedia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{displa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2608-3A3B-48B2-B514-69281694333C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4A2E65-076A-46E1-BE7A-FB75D5AE064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ortance in S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rn-taking models and theories of grounding of considerable potential use in S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User likely to say next and wh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can we be sure what the User has said and its relationship to what s/he believes to be tru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type of response does s/he expect the system to make?  Wh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stacles for practical us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cues signal when it is appropriate to spea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we negotiate a common system/user groun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9360-FC79-407A-9D82-15FEAC408B33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A0E3C1-A79F-4DC8-AA79-78491EA6443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Is It Appropriate to Speak? (Beattie ’8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:  25m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televised interview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before 1979 British General 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argaret Thatche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(Tory leader): the Iron La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Jim Callagha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(Prime Minister):  Sunny J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interrup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intelligent, highly neurotic, extrover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 interrupt wo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ions may indic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re for domin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re for social appro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yance of ‘joint enthusiasm’, heightened invol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AB45-BB32-4F68-A658-588CB31CE76E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3419C0-ADA0-4E26-A605-AF575ECCF07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attie’s classification schem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spkr 2 attempts to take the tu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Smooth switch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no simultaneous speech, spkr 1’s utterance complete, turn to spkr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Simple interrupt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simultaneous speech, spkr 1 doesn’t complete utterance, turn to spkr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Overla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simultaneous speech, spkr 1 completes utterance, turn to spkr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Butting-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simultaneous speech but no change of turn, spkr 1 keeps the tu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Silent interrup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spkr 1’s utterance incomplete, no simultaneous speech, turn to spkr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6324-90F6-432A-A709-0B3849B16AC8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CE0914-A7AE-43AE-B93B-8E9601CD219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ze acoustic/prosodic and gestural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n-yielding 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u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aking rate sl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wl at end of cla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op in pitch or loud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etion of syntactic cla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sture of term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tempt suppression sign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led pau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s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9229-57C4-41E7-9F04-BBB17112C698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6ACC47-3670-41C0-96A5-BAC1A827A29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Thatch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terrupted almost twice as often as she interrupts interviewer (19/10)– unlike Callaghan (14/2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tcher: Starts slow and gets faster, few FPs (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aghan: starts fast and gets slower, many FPs (2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blic perception:  Thatcher is domineering in interviews and Callaghan is a ‘nice guy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Thatcher does not domin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is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Thatche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ions come at end of syntactic clause when drawl on stressed syllable in clause and falling into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BFDB-A9F9-4DE0-880F-902D79ECDB74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BE7F27-6AAC-45E1-9099-A300E94D181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suppression sign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does she do this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ch training before elec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is she still perceived as domineer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interrupted she doesn’t cede the floor despite lengthy stretches of simultaneous spee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1CA2-BDF8-44BB-B298-F246DFB6DA06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C1E18F-10C0-40ED-8C9E-B2619821583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utomati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peaker Identification/Seg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26760"/>
            <a:ext cx="82296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rization: Segmentation of audio corpora (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</a:rPr>
              <a:t>Broadcast New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meetings, telephone conversations) into speaker seg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aker tu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aker ident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ch and mus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aker se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 se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clustering based on acoustic 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-of-the-art: 8.47%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CFEE-5E7A-4999-96E4-15498466516B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CA1488-99C5-423B-8161-7AB7712251E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rn-taking behaviors in human-human convers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sational Analysis accou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sk/circumstance/individual depend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guistic/cultural differ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unding analy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rization:  Automatic Turn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27D2-B46F-47D9-9283-35A2919EF93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92C596-B294-4A1E-9BE7-8346FA1F89F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229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OC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OCNO&gt; CNN19980104.1130.0000 &lt;/DOCNO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OCTYPE&gt; MISCELLANEOUS TEXT (automatic initial) &lt;/DOCTYP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ATE_TIME&gt; 01/04/1998 11:30:00.00 &lt;/DATE_TIM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TEX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/TEX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END_TIME&gt; 01/04/1998 11:30:34.71 &lt;/END_TIM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/DOC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OC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OCNO&gt; CNN19980104.1130.0034 &lt;/DOCNO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OCTYPE&gt; NEWS STORY &lt;/DOCTYP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ATE_TIME&gt; 01/04/1998 11:30:34.71 &lt;/DATE_TIM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TEX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in northern kentucky are forcing 3,000 people in two states to flee thei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hom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the fire started early this morning at the cargill company plant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maysville near the ohio riv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authorities have been going door-to-door advising people in kentucky 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ohio to take shelter in area high school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the fire is in a building where several fertilizers and chemicals 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stor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192A-F299-48E2-9FEA-6B7AE6548B1C}" type="slidenum">
              <a:t>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DE0EDB-C45F-40D7-90B8-3B98BEF1E6F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officials say all they can do is let the fire burn itself out, beca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spraying water on the flames would be too dangerou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TURN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Arial"/>
              </a:rPr>
              <a:t>at the current time, our only way of getting it under control is to st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Arial"/>
              </a:rPr>
              <a:t>away from i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Arial"/>
              </a:rPr>
              <a:t>we've backed everyone off from the fire by about a mile and a quarter 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Arial"/>
              </a:rPr>
              <a:t>evacuated homes in that radius and the chief threat at this point is a ve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Arial"/>
              </a:rPr>
              <a:t>small risk of a very large explosion caused by 400 tons of ammonia nitr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Arial"/>
              </a:rPr>
              <a:t>stored in the build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TURN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foir people have been taken to hospital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one firefighter was injured and treated on the sce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/TEX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END_TIME&gt; 01/04/1998 11:31:31.00 &lt;/END_TIM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/DOC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OC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OCNO&gt; CNN19980104.1130.0091 &lt;/DOCNO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OCTYPE&gt; NEWS STORY &lt;/DOCTYP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ATE_TIME&gt; 01/04/1998 11:31:31.00 &lt;/DATE_TIM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TEX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authorities in brooklyn, new york, say an explosion at a tire company h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CDE7-B3E8-47E1-B9B7-E33C8310CC25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CDCC71-D604-4B2E-BF3D-026B5A59067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229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caused at least three buildings to collaps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it set off a four-alarm fire, which has been contain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officials tell cnn one person was injur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investigators have not determined the cause of the incid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/TEX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END_TIME&gt; 01/04/1998 11:31:48.11 &lt;/END_TIM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/DOC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OC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OCNO&gt; CNN19980104.1130.0108 &lt;/DOCNO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OCTYPE&gt; NEWS STORY &lt;/DOCTYP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ATE_TIME&gt; 01/04/1998 11:31:48.11 &lt;/DATE_TIM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TEX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unexpected weather conditions are the rule across much of the united sta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this weeke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angela astore repor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TURN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ANNOTATION&gt; Reporter:  &lt;/ANNOTATION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it was a nice day to play along the beach -- spend a few hours fishing 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or get in a game of golf -- not uncommon -- unless it's january in chicag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record high temperatures were set yesterday from minnesota 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massachuset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warm air drawn northward from the gulf of mexico was behind the rise in t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mercu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F926-0879-42E8-BCFD-783CF76CB6A0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DABCB5-DE28-4EB5-9067-96F46A4EBA1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it was a different scene in the northwest, where snow is the sto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but the winter weather didn't stop this man from getting in some warm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pursui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and he wasn't bothered by the fact that he couldn't see where his go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balls land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TURN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00"/>
                </a:solidFill>
                <a:latin typeface="Arial"/>
              </a:rPr>
              <a:t>it's not really where it's going to land that's important at this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00"/>
                </a:solidFill>
                <a:latin typeface="Arial"/>
              </a:rPr>
              <a:t>while you are learn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00"/>
                </a:solidFill>
                <a:latin typeface="Arial"/>
              </a:rPr>
              <a:t>once you've learned, then it i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00"/>
                </a:solidFill>
                <a:latin typeface="Arial"/>
              </a:rPr>
              <a:t>we'll worry about that when the snow clea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00"/>
                </a:solidFill>
                <a:latin typeface="Arial"/>
              </a:rPr>
              <a:t>right now, it's probably better that i don't see where they la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B09F-4ABD-48E3-B0A8-05399E0689ED}" type="slidenum">
              <a:t>2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427023-BF3C-49E3-9E08-153AAE10F1F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aker Ident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Linguistic informatio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o identify speaker types and speaker names (LIMSI ’0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lates (“&lt;name&gt; has this report from &lt;location&gt;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s: 10.9% error on test 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only 10% of segments contain relevant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imate 25% error on broadcast news if segmentation and clustering is done to id all of each speaker’s seg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8F91-C9A5-4057-AD3E-801CA768CA0B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609DE2-710B-4BF9-9D29-C08E01DF0DF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Turn Identification for S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-to-talk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lence det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ech det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ge-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more ‘natural’ turn-taking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are users ready to be interrupt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do they want to keep the floo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do they expect the system to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backchann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can we indicate when the system has finished its tur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21E7-5124-4E4F-BA76-9281E007872F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C80566-BC07-48F7-A251-A2AE6383AE7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rn-taking models and theories of grounding of considerable potential use in S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User likely to say next and </a:t>
            </a:r>
            <a:r>
              <a:rPr b="1" i="1" lang="en-US" sz="2400" spc="-1" strike="noStrike">
                <a:solidFill>
                  <a:srgbClr val="990099"/>
                </a:solidFill>
                <a:latin typeface="Arial"/>
              </a:rPr>
              <a:t>wh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can we be sure what the User has said and its relationship to what s/he believes to be tru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type of response does s/he expect the system to make?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Wh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stacles for practical us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99"/>
                </a:solidFill>
                <a:latin typeface="Arial"/>
              </a:rPr>
              <a:t>What cues signal when it is appropriate to spea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we negotiate a common system/user groun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8F47-6C35-4BEA-80A0-AD6416850366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D1627B-2953-40AB-A587-D2DFEDE2910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 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know a few things we need to accomplish and a bit about the difficulties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tools do we have to use in tackling the problem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nents of S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 Speech Recogn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-to-Spee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ings:  J&amp;M 22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E2F3-9E83-442B-BCC3-9F613B305094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A7A51F-F378-464D-9F8E-4DAEE637450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rn-taking Behavi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speakers know </a:t>
            </a: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when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appropriate to contribute to a convers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rsational Analysis Theory:  Conversational partners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xpec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ertain patterns of behavior in normal convers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: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You got an A?  That’s grea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ris: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Yeah, I’m really smart you kn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ris: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Wel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 was just lucky I happened to read the chapter on dialogue systems right before the test.  Otherwise I never would have squeaked throug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l patterns in ordinary conver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iation is signific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F3C6-4CB2-45B6-B438-B2B56760E659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78C26C-8302-4FCA-9970-8A4CBB2337B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ren learn turn taking within first 2 years (Stern ’7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ldre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ik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y their peers are more skilled (Black &amp; Hazen ’9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l individual dif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y people pause longer and speak less and less often (Pilkonis ’7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izophrenics, neurotics, depressed people less skilled in turn-ta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4041-C989-4E9F-BCBF-3B86E6A90B80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76E5DD-7791-408C-9D75-E5DDBE74838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ctations of What to Say Depend on Task at H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epho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at: Hell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hris: Hi, Pat.  It’s Chr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at: Hi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osings (6-tur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hris: Well, I just wanted to see how you were do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at: Thanks for calling. We'll have to have lunch some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hris: I'd like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at: Ok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hris: Ok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at: See y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hris: Yeah, see y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C187-5F75-4A5A-9302-BE6B58038B23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F5D52F-259D-463F-9D3C-2AF6667039A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at:  “Hi, can we switch lunch to 12:30?  I’m running late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hris: “Sure.  12:30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at:  “Great.  See you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ice encoun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lerk:  Good morning.  Is there something I can help you with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at: Hi.  Yeah.  I wonder if you could show me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e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Boss:  Today I want to focus on next year’s goal statements.  Chris, could you report please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hris: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Boss: Pat, now let’s hear from you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at: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s broadca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nchor: …Chris Smith reports from Rome now on the upcoming conclave.  Chri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Reporter:  Thanks, Pat…..  And now back to Pat Jones in New Yor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7D31-9712-41B1-9B50-2915367A016C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CD524D-7868-4EF6-A754-89927FF9DB4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sational Analysis (Sacks et al ’7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we characterize expectations of ‘what to say’ more generall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les’ of turn-ta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, during this turn the current speaker has selected A as the next speaker, then A must speak n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current speaker does not select the next speaker, any other speaker may take the next tu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no one else takes the next turn, the current speaker may take the next tu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les Apply at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Transition Relevant Pla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TRPs) wher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llows speaker changes to occ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1E5E-BC47-4B64-AA3C-DEC90F151A57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51338E-774F-4C38-BECA-38DCF8969C6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Can Speaker Shifts Occ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Adjacency pai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Question/ans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Greeting/gre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Compliment/downp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Dispreferr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spon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l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’ to a simple request without expla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ing the topic abruptly without tran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ortant for Spoken Dialogue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9F1C-8B01-47A0-8F34-73CBF304E478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F8C7A3-A45E-40F4-B786-0809A5BD829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ltural Differences in Turn-Ta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nese telephone convers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ings (Zhu ’0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darin vs. Briti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ication differ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itish self-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inese callees ask the ca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osings (Sun ’0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9 female-female telephone convers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osings initiated through matter-of-fact statement of intention to end convers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balized thanking occurs except in mother/daughter closings – not the standard English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nish business calls (Halmari ’93) vs. Americ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ericans get right to the 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ns c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A40F-CD55-4ED8-8B2C-7F5AB99C2B2A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5EEF6C-74F0-44A5-A188-518FAC71395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2-17T17:52:10Z</dcterms:created>
  <dc:creator>Julia Hirschberg</dc:creator>
  <dc:description/>
  <dc:language>en-US</dc:language>
  <cp:lastModifiedBy>Julia Hirschberg</cp:lastModifiedBy>
  <cp:lastPrinted>1999-05-22T22:06:30Z</cp:lastPrinted>
  <dcterms:modified xsi:type="dcterms:W3CDTF">2007-07-10T15:50:51Z</dcterms:modified>
  <cp:revision>472</cp:revision>
  <dc:subject/>
  <dc:title>No Slide Title</dc:title>
</cp:coreProperties>
</file>