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7320" y="685800"/>
            <a:ext cx="4567320" cy="342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64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9E931B-3607-4663-B7BA-5C2C0C6F6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7640" y="4343400"/>
            <a:ext cx="50227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ling whether information is grounded or not (Clark &amp; Wilkes-Gibbs ‘86, Clark &amp; Schaeffer ‘89): presentation/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 dialogue for Dutch train info; one version uses explicit verification and oneimplicit; 20 users given 3 tasks;  analyzed 443 verification q/a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ed that responses to correct verifications would be shorter, with unmarked word order, not repeating or correcting information but presenting new information (positive cues) -- principle of least ef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s:  where problems, subjects use more words (or say nothing), use marked word order (especially after implicit verifs), contain  more disconfirmations (duh), with more repeated and corrected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L experiments (memory based learning) show 97% correct prediction from these features (&gt;8 words or marked word order or corrects info -&gt; 9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ahmer et al ‘99b predicted additional prosodic cues for neg signals: high boundary tone, high pitch range, long duration of ‘nee’ and entire utterance, long pause after ‘nee’, long delay before ‘no’, from 109 negative answers to ynqs of 7 speakers; hy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FD02E4-D785-483F-AD13-22FCEE6E6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18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180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-14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C49-ECFB-4214-8CD2-FB687877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B3B-0EDB-47C7-9E5D-4EE46273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813-9D69-4034-A393-64BB1073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F45-916E-45DC-B94F-F91C3C3A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BBF-914B-47AF-AE48-810A54AA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A87-E9EF-471B-879C-EE3C2343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526-6EB7-478B-953E-4BEB164D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331-D47E-41D7-95E4-0569A82B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89F-EBE9-4370-B417-D2755D39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EC2-F11F-4EF0-BB71-74D6CEA4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41A-85B5-41A1-99EE-195F4DF2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278-6C5B-4E0F-A9E5-90126932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D1BC-8382-4940-9044-7E837C333C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150D-8C66-4925-B8F7-C7606F236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peech.kth.se/multimodal" TargetMode="External"/><Relationship Id="rId3" Type="http://schemas.openxmlformats.org/officeDocument/2006/relationships/hyperlink" Target="http://www.speech.kth.se/multimodal" TargetMode="External"/><Relationship Id="rId4" Type="http://schemas.openxmlformats.org/officeDocument/2006/relationships/hyperlink" Target="http://www.speech.kth.se/multimodal" TargetMode="External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ken Dialogu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A07 3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BC4-3250-407C-8327-50E69958F23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7FA09-64CF-42ED-A0D3-9929BF1FA6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wedish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the dialogu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ontrolling lexical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human-human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3B3-D2CA-4502-AE99-6C9DDAE0CC8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C8760-C591-42F9-ABB6-453FD6A21E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1720" y="599760"/>
            <a:ext cx="862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User answers to question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57400" y="1405080"/>
            <a:ext cx="683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165240" indent="0">
              <a:spcBef>
                <a:spcPts val="601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swers to the ques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601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weekday do you want to go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601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Vilken veckodag vill du </a:t>
            </a:r>
            <a:r>
              <a:rPr b="0" lang="en-GB" sz="24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300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fre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want to go on 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jag vill </a:t>
            </a:r>
            <a:r>
              <a:rPr b="0" lang="en-GB" sz="20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å fre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%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want to go to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jag vill </a:t>
            </a:r>
            <a:r>
              <a:rPr b="0" lang="en-GB" sz="20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å fre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want to go a 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jag vill </a:t>
            </a:r>
            <a:r>
              <a:rPr b="0" lang="en-GB" sz="20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fredag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e there any hotels in Vaxholm?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inns det några hotell i Vaxhol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91A-6021-41C7-983B-526925350EC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80530-CBBC-4CEF-AE3A-85FADDB6B363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5257800"/>
            <a:ext cx="1185840" cy="11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1680" y="1860480"/>
            <a:ext cx="380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Hur ofta 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u utomlands på semester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2263680"/>
            <a:ext cx="439272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en gång om året kansk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ganska sällan utomlands på sem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nästan alltid utomlands under min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ngefär 2 gånger per år utomlands på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nästan varje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n varje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ungefär en gång om å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är nästan aldrig utomlands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eller två gånger om år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gång per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kanske en gång per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gefär en gång per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åtminståne en gång om år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ästan aldrig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82360" y="1860480"/>
            <a:ext cx="386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Hur ofta 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u utomlands på semester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02280" y="2254320"/>
            <a:ext cx="4941720" cy="34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en gång om året utomlands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inte ofta utomlands på semester det blir mera i arbet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n vartannat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en gång per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 ungefär en gång per å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brukar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a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n åtminståne en gång i år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gång per år kansk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gång vart annat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arje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art tredje år ungefä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u för tiden inte så ofta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arje år brukar 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a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6320" y="554040"/>
            <a:ext cx="8437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3de8"/>
                </a:solidFill>
                <a:latin typeface="Arial Black"/>
              </a:rPr>
              <a:t>Examples of questions</a:t>
            </a:r>
            <a:br>
              <a:rPr sz="4400"/>
            </a:br>
            <a:r>
              <a:rPr b="0" lang="en-US" sz="4400" spc="-1" strike="noStrike">
                <a:solidFill>
                  <a:srgbClr val="063de8"/>
                </a:solidFill>
                <a:latin typeface="Arial Black"/>
              </a:rPr>
              <a:t>and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004-25F0-41EE-931F-E5138AB5A78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F0A8D-D45E-4281-A3FC-AD16340FB4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00400" y="5367240"/>
            <a:ext cx="3784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1080" y="2448000"/>
            <a:ext cx="3834360" cy="383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25" y="101"/>
                </a:moveTo>
                <a:arcTo wR="10800" hR="10800" stAng="-5870907" swAng="1368992"/>
                <a:lnTo>
                  <a:pt x="10800" y="10800"/>
                </a:lnTo>
                <a:close/>
              </a:path>
              <a:path fill="none" w="21600" h="21600">
                <a:moveTo>
                  <a:pt x="9325" y="101"/>
                </a:moveTo>
                <a:arcTo wR="10800" hR="10800" stAng="-5870907" swAng="1368992"/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13080" y="2456280"/>
            <a:ext cx="3835080" cy="383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9" y="366"/>
                </a:moveTo>
                <a:arcTo wR="10800" hR="10800" stAng="-4501915" swAng="11110628"/>
                <a:lnTo>
                  <a:pt x="10800" y="10800"/>
                </a:lnTo>
                <a:close/>
              </a:path>
              <a:path fill="none" w="21600" h="21600">
                <a:moveTo>
                  <a:pt x="13589" y="366"/>
                </a:moveTo>
                <a:arcTo wR="10800" hR="10800" stAng="-4501915" swAng="11110628"/>
              </a:path>
            </a:pathLst>
          </a:custGeom>
          <a:solidFill>
            <a:srgbClr val="fdd7a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15600" y="2455920"/>
            <a:ext cx="3836520" cy="383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0" y="20935"/>
                </a:moveTo>
                <a:arcTo wR="10800" hR="10800" stAng="6612367" swAng="3894254"/>
                <a:lnTo>
                  <a:pt x="10800" y="10800"/>
                </a:lnTo>
                <a:close/>
              </a:path>
              <a:path fill="none" w="21600" h="21600">
                <a:moveTo>
                  <a:pt x="7070" y="20935"/>
                </a:moveTo>
                <a:arcTo wR="10800" hR="10800" stAng="6612367" swAng="3894254"/>
              </a:path>
            </a:pathLst>
          </a:custGeom>
          <a:solidFill>
            <a:srgbClr val="fbb35b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16320" y="2455920"/>
            <a:ext cx="3835080" cy="383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" y="11721"/>
                </a:moveTo>
                <a:arcTo wR="10800" hR="10800" stAng="10506621" swAng="5268348"/>
                <a:lnTo>
                  <a:pt x="10800" y="10800"/>
                </a:lnTo>
                <a:close/>
              </a:path>
              <a:path fill="none" w="21600" h="21600">
                <a:moveTo>
                  <a:pt x="39" y="11721"/>
                </a:moveTo>
                <a:arcTo wR="10800" hR="10800" stAng="10506621" swAng="5268348"/>
              </a:path>
            </a:pathLst>
          </a:custGeom>
          <a:solidFill>
            <a:srgbClr val="ac6004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13800" y="2459520"/>
            <a:ext cx="3833640" cy="383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10" y="106"/>
                </a:moveTo>
                <a:arcTo wR="10800" hR="10800" stAng="-4917824" swAng="451098"/>
                <a:lnTo>
                  <a:pt x="10800" y="10800"/>
                </a:lnTo>
                <a:close/>
              </a:path>
              <a:path fill="none" w="21600" h="21600">
                <a:moveTo>
                  <a:pt x="12310" y="106"/>
                </a:moveTo>
                <a:arcTo wR="10800" hR="10800" stAng="-4917824" swAng="451098"/>
              </a:path>
            </a:pathLst>
          </a:custGeom>
          <a:solidFill>
            <a:srgbClr val="800080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18240" y="1598760"/>
            <a:ext cx="79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83040" y="2095560"/>
            <a:ext cx="50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70480" y="4124160"/>
            <a:ext cx="8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06480" y="443232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7320" y="5689440"/>
            <a:ext cx="87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84760" y="535140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29480" y="2527200"/>
            <a:ext cx="77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45680" y="280980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89520" y="1755720"/>
            <a:ext cx="968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92520" y="2170080"/>
            <a:ext cx="50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E7C-4E42-47CB-9603-D91B5EE6A1F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7FBC5-DDF5-471B-B3B4-C4B448624B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wedish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the dialogu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lexical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Learning from human-human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A72-CADF-4CBD-8B54-6E88A69D41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71B0F-4EC7-4EC8-B375-C5114DA6E7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015280" y="250920"/>
            <a:ext cx="5004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b2b2b2"/>
                </a:solidFill>
                <a:latin typeface="Arial Black"/>
              </a:rPr>
              <a:t>The Augus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60680" y="1103400"/>
            <a:ext cx="5781600" cy="459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81360" y="5910120"/>
            <a:ext cx="529416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your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5911920"/>
            <a:ext cx="528336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 call myself Strindberg, but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’t really have a sur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5910120"/>
            <a:ext cx="527076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were you bo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86040" y="5910120"/>
            <a:ext cx="530208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indberg was born in 18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910120"/>
            <a:ext cx="528300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do you do for a liv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8000" y="5911920"/>
            <a:ext cx="528012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 can answer questions ab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indberg, KTH and Stockho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7720" y="5911920"/>
            <a:ext cx="526428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 many people live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ockho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5911920"/>
            <a:ext cx="522576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ver a million people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he Stockholm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17720" y="5910120"/>
            <a:ext cx="524520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 you like it 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24200" y="5911920"/>
            <a:ext cx="523872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 who live in glass 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not throw st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43280" y="5911920"/>
            <a:ext cx="521316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es,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a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as a smart 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 sa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36800" y="5911920"/>
            <a:ext cx="520056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 come from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f Speech, Music and Hea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8480" y="5911920"/>
            <a:ext cx="516240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oyal Institut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chnolog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6800" y="5911920"/>
            <a:ext cx="516240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nformation is s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 the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3280" y="5910120"/>
            <a:ext cx="521784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68480" y="5910120"/>
            <a:ext cx="518004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are welc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43280" y="5910120"/>
            <a:ext cx="521784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by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94040" y="5911920"/>
            <a:ext cx="516240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rhaps we will me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on aga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66960" y="5910120"/>
            <a:ext cx="5167080" cy="73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es, it might be that we wil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35280" y="5911920"/>
            <a:ext cx="531468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indberg was marr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ree tim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47880" y="5911920"/>
            <a:ext cx="5315040" cy="9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indberg was marr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ree tim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D03-C678-433A-9F10-B6214CC92D2B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9211B-6FC9-4F1A-90D5-51D67868BE04}" type="datetime1">
              <a:rPr lang="en-US"/>
              <a:t>07/31/26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7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1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4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8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3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4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9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2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8" dur="1" fill="hold"/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rom Human 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provide explicit positive and 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us-based vs. laboratory experiments – do these tell us different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819520" y="1905120"/>
          <a:ext cx="30456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051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BA2-B4E4-4E7A-8668-E89F244A3B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4EFB5-B657-4D2A-A9D7-65853C1A1E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 – demonstration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of ”complete”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4120" y="2062080"/>
            <a:ext cx="5630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825-FAEB-43E5-88F3-6187DEC413B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CC8A8-7A13-416C-B2C8-E8A2E7A9DD88}" type="datetime1">
              <a:rPr lang="en-US"/>
              <a:t>07/31/26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and ‘Grounding’: Bell &amp; Gustafson ’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nd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corpora: Augus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% of users gave pos or neg feedback in sub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-to-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us: Adap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dialogues, 33 subjects, 1845 utte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utterances labeled w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or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or im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tion/Att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% of utterances contain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4% of users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652-D7A6-47A2-BE37-1DF35CE4A8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02CF7-B9A0-4EC9-A836-DB918AE906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% positive, 2/3 explicit, equal amounts of attention vs.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ubjects provided at almost every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ever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y of stu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itive feedback to model the user better (prefer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gative feedback in error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EA2-C620-4C28-91D7-2795A9DDE6A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99722-8EBD-4362-AB59-B306511E7D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human-human di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in 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EDE-B9B6-4B9D-858E-D1095430F4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16037-CF26-4140-A96A-59393EE2B3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0" t="0" r="0" b="62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GINS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0600" indent="-390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imary domain of HIGGINS is city navigation for pedestri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ily, HIGGINS is intended to provide simple information about the immediate surround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spcBef>
                <a:spcPts val="45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1773360"/>
            <a:ext cx="1873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his is a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3D test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579-AC12-49FA-A80D-17E480EFE0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A3E71-DD7F-460F-AE1E-3E4E6C3939F6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ies on human-human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gins domain (similar to Map Ta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SR in one direction to elicit error handling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11280" y="4005360"/>
            <a:ext cx="7560000" cy="1653120"/>
            <a:chOff x="611280" y="4005360"/>
            <a:chExt cx="7560000" cy="1653120"/>
          </a:xfrm>
        </p:grpSpPr>
        <p:graphicFrame>
          <p:nvGraphicFramePr>
            <p:cNvPr id="222" name=""/>
            <p:cNvGraphicFramePr/>
            <p:nvPr/>
          </p:nvGraphicFramePr>
          <p:xfrm>
            <a:off x="633600" y="4138200"/>
            <a:ext cx="1108440" cy="121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3600" y="4138200"/>
                      <a:ext cx="1108440" cy="121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6955560" y="4005360"/>
            <a:ext cx="1215720" cy="136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55560" y="4005360"/>
                      <a:ext cx="1215720" cy="136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1827000" y="4360680"/>
              <a:ext cx="49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827000" y="5050440"/>
              <a:ext cx="49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0880" y="4819320"/>
              <a:ext cx="1275120" cy="45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 Black"/>
                </a:rPr>
                <a:t>Voco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1280" y="5311800"/>
              <a:ext cx="1131120" cy="30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 Black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65560" y="5427360"/>
              <a:ext cx="129240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 Black"/>
                </a:rPr>
                <a:t>Ope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71120" y="4947480"/>
              <a:ext cx="86004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Arial Black"/>
                </a:rPr>
                <a:t>List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90440" y="4909680"/>
              <a:ext cx="86004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Arial Black"/>
                </a:rPr>
                <a:t>Spea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91440" y="4227840"/>
              <a:ext cx="860040" cy="23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Arial Black"/>
                </a:rPr>
                <a:t>Rea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75080" y="4219920"/>
              <a:ext cx="86112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i="1" lang="sv-SE" sz="1400" spc="-1" strike="noStrike">
                  <a:solidFill>
                    <a:srgbClr val="000000"/>
                  </a:solidFill>
                  <a:latin typeface="Arial Black"/>
                </a:rPr>
                <a:t>Spea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54600" y="4120920"/>
              <a:ext cx="1275120" cy="45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7000"/>
                  <a:tab algn="l" pos="2394000"/>
                  <a:tab algn="l" pos="3591000"/>
                  <a:tab algn="l" pos="4788000"/>
                  <a:tab algn="l" pos="5985000"/>
                  <a:tab algn="l" pos="7182000"/>
                  <a:tab algn="l" pos="8379000"/>
                  <a:tab algn="l" pos="9575640"/>
                  <a:tab algn="l" pos="1077264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 Black"/>
                </a:rPr>
                <a:t>AS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DFB-BBD1-40E3-8410-725A67AE07F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7D2FF-8C45-49A2-96FA-637F9480EED4}" type="datetime1">
              <a:rPr lang="en-US"/>
              <a:t>07/31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-Understanding Error Recovery (Skantze ’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s tend not to signal non-understa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: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Do you see a wooden house in front of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U: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SR: YES CROSSING ADDRESS NOW </a:t>
            </a:r>
            <a:br>
              <a:rPr sz="2800"/>
            </a:b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(I pass the wooden house 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: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Can you see a restaurant 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ead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d experience of task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er recovery from non-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296-9221-48A5-84E0-4270074A999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5261E-17A0-4AF6-AF7C-6A55E7FDDB3C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wedish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the dialogu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lexical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human-human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Evalu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C43-360D-4108-8130-D686646BA75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FC74C-FD25-4676-9495-4D9EDA5CD4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Dialogu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DISE framework (Walker et al ’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of a dialogue system is affected both by </a:t>
            </a:r>
            <a:r>
              <a:rPr b="0" i="1" lang="en-US" sz="2800" spc="-1" strike="noStrike">
                <a:solidFill>
                  <a:srgbClr val="990099"/>
                </a:solidFill>
                <a:latin typeface="Arial"/>
              </a:rPr>
              <a:t>what</a:t>
            </a: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accomplished by the user and the dialogue agent and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how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ets accomp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3760" y="3962520"/>
            <a:ext cx="27396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Max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Task Success</a:t>
            </a: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65360" y="3962520"/>
            <a:ext cx="203076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54960" y="5257800"/>
            <a:ext cx="20354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2320" y="5257800"/>
            <a:ext cx="23371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Quali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409720" y="50292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502920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E05-2D75-4EEE-A61F-6E0209F23FE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755AA-0EDD-468A-A97E-D22B9C9D52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70600" y="3124080"/>
            <a:ext cx="641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ttribut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election Criter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Kim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10:30 a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2D5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373392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3352680"/>
            <a:ext cx="655308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29200" y="33526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193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goa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en as Attribute-Valu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LVIS e-mail retrieval task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(Walker et al ‘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Find the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time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place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 of your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meeting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 with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Kim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8240" y="5105520"/>
            <a:ext cx="900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uc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fined by match between AVM values at end of  with “true” values for A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18F-1864-4F91-93CD-541294F6D984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CDD6A-81A7-438A-AD41-762B682B46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39600" y="1527120"/>
            <a:ext cx="763740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Interaction:User Turns, System Turns, Elaps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Qua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Interaction: ASR rejections, Time Out Prompts, Help Requests, Barge-Ins, Mean Recognition Score (concept accuracy), Cancell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rceived completion, information ext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4BA-6BD7-4B43-B60A-866ADE3109E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EE35F-7E51-48C6-BEFC-DC272896A4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s given specifi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ken dialogues reco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factors, states, dialog acts automatically logged; ASR accuracy,barge-in hand-labe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specify task solution via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omplet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ser Satisfactio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ultiple linear reg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odel User Satisfaction as a function of Task Success and Costs; test for significant predictiv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9AD-B3CE-40F4-A3C3-DBE2685D198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FCC7F-8CDF-46D4-9280-73CC0C06E4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User </a:t>
            </a: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Sum of Many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172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Annie  easy to understand in this conversation? 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TS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onversation, did  Annie  understand what you said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SR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onversation, was it easy to find the message you wanted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ask 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the pace of interaction with Annie appropriate in this conversation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eraction 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onversation, did you know what you could say at each point of the dialog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4720" y="1294920"/>
            <a:ext cx="404172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User Expert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often was Annie sluggish and slow to reply to you in this conversation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ystem Respon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Annie work the way you expected her  to in this conversation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xpected Behav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your current experience with using Annie to get your email, do you think you'd  use Annie regularly to access your mail when you are away from your desk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uture 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630-94B8-46AB-B220-9C9D0F04FC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FC1C9-F2F7-420F-8E82-96FEE36E52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Functions from Thre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VIS User Sat.= .21* COMP + .47 * MRS - .15 * 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T User Sat.= .35* COMP + .45* MRS - .14*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IE User Sat.= .33*COMP + .25* MRS +.33*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: User perception of  task completion (task su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: Mean recognition accuracy  (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:  Elapsed time (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: Help requests (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90F-AE63-4937-A618-57E4D21A7AD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ED623-AE33-413F-B7D8-43BCB061FBCB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3360" y="329760"/>
            <a:ext cx="775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a8081b"/>
                </a:solidFill>
                <a:latin typeface="Arial"/>
              </a:rPr>
              <a:t>The Waxholm Project at K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4760" y="3095640"/>
            <a:ext cx="2367000" cy="1776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56120" y="1339920"/>
            <a:ext cx="56829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uris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ockholm archipel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me-tables, hotels, hostels, camping and dining possi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xed initiative dia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eech recog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ltimodal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raph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s, maps, charts and time-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s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www.speech.kth.s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/multimo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DB9-E893-4F48-AF82-6FAC5552621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4F924-5467-485F-ABCF-4212555179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c6600"/>
                </a:solidFill>
                <a:latin typeface="Arial"/>
              </a:rPr>
              <a:t>Performance Mod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ceived task comple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n recognition sc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sistently significant predictors of Us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odel useful for system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tions about system mod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ing ‘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dialogues from ‘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di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we also tell on-line when a dialogue is ‘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oing wr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644-DC6F-4D8B-86AB-83DCC7B55B7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D90D2-F8F9-4CAE-AC51-4F2DFEF330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-taking (J&amp;M, Link to conversational analysis description, Beattie on Margaret Thatc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8EA-1737-482D-B41C-D93B3C0BD7B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157C7-7AAF-4FE9-85C7-DB135481AC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9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Waxholm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98600" y="787320"/>
            <a:ext cx="6321240" cy="5029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0560" y="5911920"/>
            <a:ext cx="708012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Where can I find hotel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5760" y="5911920"/>
            <a:ext cx="708048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nformation about hotels is shown in this ta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1320" y="5911920"/>
            <a:ext cx="708012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Which hotels are in Waxholm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73160" y="5911920"/>
            <a:ext cx="708012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nformation about the hotels in Waxholm is </a:t>
            </a:r>
            <a:br>
              <a:rPr sz="2100"/>
            </a:b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shown in this ta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23920" y="5911920"/>
            <a:ext cx="708012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Where is Waxholm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73160" y="5911920"/>
            <a:ext cx="708012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Waxholm is shown on this ma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0980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 think I want to go to Waxhol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5911920"/>
            <a:ext cx="72201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 am looking for boats to Waxhol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From where do you want to g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2240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The c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5911920"/>
            <a:ext cx="72201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Which day of the week do you want to go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5000" y="5911920"/>
            <a:ext cx="72201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 want to go tomorrow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35000" y="5911920"/>
            <a:ext cx="72201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There are lots of boats from Stockholm to Waxholm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on a Friday, At what time do you want to go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2240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When do the evening boats depart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2240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This is a table of the boats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0980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s it possible to eat in Waxholm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2240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nformation about the restaurants in Waxhol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s shown in this ta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056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0560" y="5911920"/>
            <a:ext cx="721980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Thank you to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A2A-4A0A-4DB7-A2B2-847ABB79B69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7AE0A-20C0-48B0-B831-B15AAECE08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8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3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9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700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6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3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800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900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1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6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wedish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ontrolling the dialogu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lexical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human-human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21D-BA04-4C09-8BCB-F2021F9EC5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9E652-B19B-4C6F-BBE5-B6ABDD1F45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334440"/>
            <a:ext cx="69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Dialogue control - </a:t>
            </a:r>
            <a:br>
              <a:rPr sz="2800"/>
            </a:b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stat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520" y="1579680"/>
            <a:ext cx="8772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alog grammar specified by a number of </a:t>
            </a:r>
            <a:r>
              <a:rPr b="0" lang="en-GB" sz="2800" spc="-1" strike="noStrike">
                <a:solidFill>
                  <a:srgbClr val="c94e35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state associated with an </a:t>
            </a:r>
            <a:r>
              <a:rPr b="0" lang="en-GB" sz="2800" spc="-1" strike="noStrike">
                <a:solidFill>
                  <a:srgbClr val="c94e35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base search, system question…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able state determined from </a:t>
            </a:r>
            <a:r>
              <a:rPr b="0" lang="en-GB" sz="2800" spc="-1" strike="noStrike">
                <a:solidFill>
                  <a:srgbClr val="c94e35"/>
                </a:solidFill>
                <a:latin typeface="Arial"/>
              </a:rPr>
              <a:t>semantic featu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ition </a:t>
            </a:r>
            <a:r>
              <a:rPr b="0" lang="en-GB" sz="2800" spc="-1" strike="noStrike">
                <a:solidFill>
                  <a:srgbClr val="c94e35"/>
                </a:solidFill>
                <a:latin typeface="Arial"/>
              </a:rPr>
              <a:t>probabil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one state to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alog control </a:t>
            </a:r>
            <a:r>
              <a:rPr b="0" lang="en-GB" sz="2800" spc="-1" strike="noStrike">
                <a:solidFill>
                  <a:srgbClr val="c94e35"/>
                </a:solidFill>
                <a:latin typeface="Arial"/>
              </a:rPr>
              <a:t>design too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th a graphic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78A-43EF-426D-888A-EC02090FCD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31901-C602-4316-88A1-D99B5163AB06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xholm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6040" y="1590840"/>
            <a:ext cx="832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4e35"/>
                </a:solidFill>
                <a:latin typeface="Arial"/>
              </a:rPr>
              <a:t>TIME_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ask: get a time-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När går båten? (When does the boat leav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4e35"/>
                </a:solidFill>
                <a:latin typeface="Arial"/>
              </a:rPr>
              <a:t>SHOW_MAP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: get a chart or a map displa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Var ligger Vaxholm? (Where is Vaxholm located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4e35"/>
                </a:solidFill>
                <a:latin typeface="Arial"/>
              </a:rPr>
              <a:t>EX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ask : display lodging and dining pos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Var finns det vandrarhem? (Where are there hostels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4e35"/>
                </a:solidFill>
                <a:latin typeface="Arial"/>
              </a:rPr>
              <a:t>OUT_OF_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ask :  the subject is out of the dom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Kan jag boka rum. (Can I book a room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4e35"/>
                </a:solidFill>
                <a:latin typeface="Arial"/>
              </a:rPr>
              <a:t>NO_UNDERSTA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sk : no understanding of user int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Jag heter Olle. (My name is Ol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4e35"/>
                </a:solidFill>
                <a:latin typeface="Arial"/>
              </a:rPr>
              <a:t>END_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ask : end a dial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Tack. (Thank you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22E-3181-44B3-8C87-99E6A14C7E9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1F184-C385-420D-AF94-3E69E048AE3A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85560" y="276120"/>
            <a:ext cx="6451560" cy="40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6480" y="1849320"/>
            <a:ext cx="739188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lvl="2" marL="22860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HOW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FACILITY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NO UNDER-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OUT OF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END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TABLE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MAP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TANDING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DOMAIN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OBJECT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31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73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QUEST-WHEN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188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24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QUEST-WHERE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688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390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FROM-PLACE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.250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24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AT-PLACE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219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293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31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24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200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500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OOD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12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933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END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24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9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HOTEL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488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HOSTEL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12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ISLAND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333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556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2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PORT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125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750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244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MOVE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875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3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8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67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.0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ctr" pos="411120"/>
                <a:tab algn="ctr" pos="1714680"/>
                <a:tab algn="ctr" pos="2571840"/>
                <a:tab algn="ctr" pos="3427560"/>
                <a:tab algn="ctr" pos="4371840"/>
                <a:tab algn="ctr" pos="5313240"/>
                <a:tab algn="ctr" pos="6170760"/>
                <a:tab algn="l" pos="634212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52920" y="5840280"/>
            <a:ext cx="124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rgm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63080" y="5769000"/>
            <a:ext cx="227016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{ p(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| F )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16400" y="573408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9680" y="2459160"/>
            <a:ext cx="699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71120" y="1380960"/>
            <a:ext cx="24256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PIC 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1743120"/>
            <a:ext cx="1373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57400" y="1380960"/>
            <a:ext cx="14853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8160" y="1743120"/>
            <a:ext cx="1168200" cy="3365280"/>
          </a:xfrm>
          <a:custGeom>
            <a:avLst/>
            <a:gdLst/>
            <a:ahLst/>
            <a:rect l="l" t="t" r="r" b="b"/>
            <a:pathLst>
              <a:path w="736" h="2120">
                <a:moveTo>
                  <a:pt x="735" y="0"/>
                </a:moveTo>
                <a:lnTo>
                  <a:pt x="0" y="0"/>
                </a:lnTo>
                <a:lnTo>
                  <a:pt x="0" y="211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5040" y="182880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2240" y="182880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76800" y="182880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6520" y="182880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6720" y="182880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5520" y="182880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D94-FBC0-4F06-B244-A05E07C9E02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5C135-6629-4CF8-B8AA-37EADD555F4C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8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predic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6520" y="2428920"/>
            <a:ext cx="3124080" cy="2170080"/>
          </a:xfrm>
          <a:custGeom>
            <a:avLst/>
            <a:gdLst/>
            <a:ahLst/>
            <a:rect l="l" t="t" r="r" b="b"/>
            <a:pathLst>
              <a:path w="1968" h="1367">
                <a:moveTo>
                  <a:pt x="0" y="0"/>
                </a:moveTo>
                <a:lnTo>
                  <a:pt x="1967" y="0"/>
                </a:lnTo>
                <a:lnTo>
                  <a:pt x="1967" y="1366"/>
                </a:lnTo>
                <a:lnTo>
                  <a:pt x="0" y="13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6520" y="3881520"/>
            <a:ext cx="31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46520" y="3156120"/>
            <a:ext cx="31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46520" y="2428920"/>
            <a:ext cx="31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46520" y="2428920"/>
            <a:ext cx="3133440" cy="2179440"/>
          </a:xfrm>
          <a:custGeom>
            <a:avLst/>
            <a:gdLst/>
            <a:ahLst/>
            <a:rect l="l" t="t" r="r" b="b"/>
            <a:pathLst>
              <a:path w="1974" h="1373">
                <a:moveTo>
                  <a:pt x="0" y="0"/>
                </a:moveTo>
                <a:lnTo>
                  <a:pt x="1973" y="0"/>
                </a:lnTo>
                <a:lnTo>
                  <a:pt x="1973" y="1372"/>
                </a:lnTo>
                <a:lnTo>
                  <a:pt x="0" y="137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6520" y="2428920"/>
            <a:ext cx="0" cy="21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22400" y="4606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22400" y="44625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22400" y="4316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22400" y="41720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22400" y="40273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22400" y="38815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22400" y="3735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22400" y="3591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22400" y="34448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22400" y="33004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2400" y="31561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22400" y="30081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22400" y="28638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2400" y="27194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22400" y="25732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22400" y="2428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6280" y="4606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6280" y="3881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6280" y="3156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6280" y="2428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46520" y="4606920"/>
            <a:ext cx="31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846520" y="457668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73840" y="448632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73840" y="375912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14440" y="303372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14440" y="230652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3011400"/>
            <a:ext cx="235080" cy="2653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54440" y="2963880"/>
            <a:ext cx="41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3614760"/>
            <a:ext cx="2206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3400" y="3467160"/>
            <a:ext cx="2041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o understanding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21840" y="2438280"/>
            <a:ext cx="5875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9360" y="2436840"/>
            <a:ext cx="5875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55280" y="2968560"/>
            <a:ext cx="47160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00000" y="3013200"/>
            <a:ext cx="47160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02840" y="4784760"/>
            <a:ext cx="1035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o ex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ingu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6200" y="4784760"/>
            <a:ext cx="6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81320" y="2730600"/>
            <a:ext cx="300240" cy="1874880"/>
          </a:xfrm>
          <a:custGeom>
            <a:avLst/>
            <a:gdLst/>
            <a:ahLst/>
            <a:rect l="l" t="t" r="r" b="b"/>
            <a:pathLst>
              <a:path w="189" h="1181">
                <a:moveTo>
                  <a:pt x="0" y="0"/>
                </a:moveTo>
                <a:lnTo>
                  <a:pt x="188" y="0"/>
                </a:lnTo>
                <a:lnTo>
                  <a:pt x="188" y="1180"/>
                </a:lnTo>
                <a:lnTo>
                  <a:pt x="0" y="1180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4600" y="2759040"/>
            <a:ext cx="299880" cy="1846440"/>
          </a:xfrm>
          <a:custGeom>
            <a:avLst/>
            <a:gdLst/>
            <a:ahLst/>
            <a:rect l="l" t="t" r="r" b="b"/>
            <a:pathLst>
              <a:path w="189" h="1163">
                <a:moveTo>
                  <a:pt x="0" y="0"/>
                </a:moveTo>
                <a:lnTo>
                  <a:pt x="188" y="0"/>
                </a:lnTo>
                <a:lnTo>
                  <a:pt x="188" y="1162"/>
                </a:lnTo>
                <a:lnTo>
                  <a:pt x="0" y="1162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9760" y="3325680"/>
            <a:ext cx="298440" cy="1279800"/>
          </a:xfrm>
          <a:custGeom>
            <a:avLst/>
            <a:gdLst/>
            <a:ahLst/>
            <a:rect l="l" t="t" r="r" b="b"/>
            <a:pathLst>
              <a:path w="188" h="806">
                <a:moveTo>
                  <a:pt x="0" y="0"/>
                </a:moveTo>
                <a:lnTo>
                  <a:pt x="187" y="0"/>
                </a:lnTo>
                <a:lnTo>
                  <a:pt x="187" y="805"/>
                </a:lnTo>
                <a:lnTo>
                  <a:pt x="0" y="80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23040" y="3370320"/>
            <a:ext cx="299880" cy="1235160"/>
          </a:xfrm>
          <a:custGeom>
            <a:avLst/>
            <a:gdLst/>
            <a:ahLst/>
            <a:rect l="l" t="t" r="r" b="b"/>
            <a:pathLst>
              <a:path w="189" h="778">
                <a:moveTo>
                  <a:pt x="0" y="0"/>
                </a:moveTo>
                <a:lnTo>
                  <a:pt x="188" y="0"/>
                </a:lnTo>
                <a:lnTo>
                  <a:pt x="188" y="777"/>
                </a:lnTo>
                <a:lnTo>
                  <a:pt x="0" y="777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21760" y="3794040"/>
            <a:ext cx="47160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90040" y="3828960"/>
            <a:ext cx="47160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90000" y="4788000"/>
            <a:ext cx="107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16080" y="4156200"/>
            <a:ext cx="300240" cy="452160"/>
          </a:xfrm>
          <a:custGeom>
            <a:avLst/>
            <a:gdLst/>
            <a:ahLst/>
            <a:rect l="l" t="t" r="r" b="b"/>
            <a:pathLst>
              <a:path w="189" h="285">
                <a:moveTo>
                  <a:pt x="0" y="0"/>
                </a:moveTo>
                <a:lnTo>
                  <a:pt x="188" y="0"/>
                </a:lnTo>
                <a:lnTo>
                  <a:pt x="188" y="284"/>
                </a:lnTo>
                <a:lnTo>
                  <a:pt x="0" y="284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14880" y="4187880"/>
            <a:ext cx="298440" cy="420480"/>
          </a:xfrm>
          <a:custGeom>
            <a:avLst/>
            <a:gdLst/>
            <a:ahLst/>
            <a:rect l="l" t="t" r="r" b="b"/>
            <a:pathLst>
              <a:path w="188" h="265">
                <a:moveTo>
                  <a:pt x="0" y="0"/>
                </a:moveTo>
                <a:lnTo>
                  <a:pt x="187" y="0"/>
                </a:lnTo>
                <a:lnTo>
                  <a:pt x="187" y="264"/>
                </a:lnTo>
                <a:lnTo>
                  <a:pt x="0" y="264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1625040" y="3379680"/>
            <a:ext cx="99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%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542-0C3A-4E10-91B3-72C3628103C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70CD1-17DC-4FB0-813C-F378ABB0E3E8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1999-05-22T22:06:30Z</cp:lastPrinted>
  <dcterms:modified xsi:type="dcterms:W3CDTF">2007-05-01T17:29:06Z</dcterms:modified>
  <cp:revision>411</cp:revision>
  <dc:subject/>
  <dc:title>No Slide Title</dc:title>
</cp:coreProperties>
</file>