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975034-4A57-4A7E-8853-C7A87634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9943C0-5C1D-44DA-9824-AD3F314A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007550-D6D0-4BDC-A4CA-9CDCDA96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8AD6F1-8979-4896-B889-2A3FBC9A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36EC83-DC31-4370-B842-99B873C6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FE47B8-9051-494D-8013-078F2564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9C225B-6858-44B1-AF45-81F7F05F4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8ACF8C-72C0-4C07-A59F-93E53E38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9FAAE-29AD-4761-8A12-20F8B3B0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4EFCEF-327B-45AD-853C-45468A6E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8F3701-DB60-4916-827F-EE1396C9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rson’s r for % of subjects choosing this interpretation w/feature (ttests to determine sign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9E2886-0AB3-4776-85DF-B37A7289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EAA-C63B-4045-B215-1348FCA5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DE9-7884-4E12-873C-66189E5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55A-8714-45BA-9E9A-409D8D23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1EE-A2AD-4D55-B395-1A272157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711-1B32-4198-9457-61316B4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BDF-1D53-4324-8F4C-925A03D1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0DE-EB24-4F1B-8F46-5E5E709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963-FB11-4B86-9526-3C0BE30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01F-B636-4665-843E-3E0DC692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EFA-09E6-4FA7-889E-6676AC8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73C-2ACF-452B-A2D0-F854D8A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3F5-6945-4939-9E44-806178E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8A8F-186A-4C56-A245-B58F7596AD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A98-1B50-41CB-8890-2C26482C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lk.uvt.nl/timbl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rochester.edu/research/cisd/resources/damsl/RevisedManual/RevisedManual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logue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1D4-933E-4DC5-8D84-8736950FDD6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9EF77-8251-4BDE-8B2B-E5179898D8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read ambiguous questions in disambiguating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or given/new and contras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e/neutral/impolit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I-style 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imbalanced; litt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e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peaker reads both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ception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7DA-7E36-49F4-B8B4-E5F66A5F64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E8F0A-D865-4FE5-97B7-7A85A6D9AD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requests (e.g. for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%, more likely (73%) to be in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%,46% were indirect: differences in height of boundary 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eness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 in impolite (higher rise) vs. neutral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duction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tility in production of indirect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too steep a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FCA-B0A5-4158-9844-D209A6E407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74996-8F69-497E-8914-77DFB170BD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Studies: Jurafsky et al ‘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istinguish different DA functions for affirmativ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, acoustic/prosodic/syntactic differentiators fo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yeah, ok, uhuh, mhmm, u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ategories to distingu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ntinu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taking fl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ssess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s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 a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es ans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t’s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cipient speake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h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aking fl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86A-3C02-4590-8AEC-878A030A82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229CE-949A-489E-BB67-3B810557F0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terms important cues to dialogue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tion help to disambiguat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 differe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ctic re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ertain DAs, compared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039-C3F2-465E-AA1A-C0EBE1B894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FE7F5-0573-4E41-AEFF-FEB5FA99AF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Board telephone conversation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segmented and labeled with DA information (initially from text) using the SWBD-DAMSL dialogue tag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60 labels that could be combined in differen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4% inter-labeler agreement on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et reduced to 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U-Boulder linguistics grad students labeling switchboard conversations of human-to-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FDD-B475-49D4-BBDE-6E1D329890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D129F-C665-4FAA-82B3-3D148A546F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beling from speec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ly 2% changed labels (114/57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/987 continuers --&gt;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r duration, lower F0, lower energy, longer preceding 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nalyz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0 and intens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5E1-C4E6-4365-861A-F93D80C449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FAF20-531A-448E-8DA1-68CB95BC75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 Lexical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6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1%)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5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7%)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pient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9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7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%)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-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6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7%)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u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%)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8D7-FF8F-4AF0-A895-94A3233907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B7BD2-F20D-4132-8C6F-B583E9F602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dic  and Lexico/Syntactic C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all DA’s, duration best differenti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orrelated with DA length i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 Term + Copula + (Intensifier) + Assessment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at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, great, 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D9D-692F-4FF2-AFBB-E1A0A7F886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A3E78-8A6A-4074-8AE4-83BE8FD4F5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variations) ambigu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at 36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pient speaker at 5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-answer at 8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h-hu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its variation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inuer at 45% (v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2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inu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ared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gre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i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ntonationally `marked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d by longer p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57C-C5CD-48D9-A6C5-57E62ED32E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E4830-B824-4ED4-89A6-7D0200D540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information may be particularly helpful in distinguishing DAs with less lexic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B06-E66A-4BB6-8331-846CEE4DBC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AED7B-6A2A-403A-B1F5-9D642F7A0AC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: Dialogue Acts vs. Discours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Ac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logue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schemes (DAM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nd indirect DAs: 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 studies of DA disambig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DA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rpu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B1F-4937-407D-A6ED-60D4B13106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C9A4F-FC80-4640-8A64-E19E9724F9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DA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et &amp; Lamel ’04: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an we detect DAs automatically w/ minimal reliance on lexical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ons are domai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R output is err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 (3912 utts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/client dialogues in a French bank call center, in a French web-based stock exchange customer service center, in an English bank cal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6A9-73DE-48DF-9DCA-8B9623A4B4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D7A5D-99A7-4A69-9975-D69B420065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tags (44) similar to DAM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 (openings, clos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level (items related to the semantic content of the t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Look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(e.g. assert, commit,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 on Hearer (e.g. confirmation, offer,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Looking 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(e.g. accept, re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(e.g. backchannel, cor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ve Status (e.g. self-talk, change-mi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: each utt could receive a tag for each class, so utts represented as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only 197 combinations ob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1E7-75EF-4551-A4B5-4789BDE6065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CC28-B927-4D58-A576-D66FE82142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 Memory-based learning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MB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ll examples for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par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2 words of each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utts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proposed DA tags for utts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rue utt bounda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3% accuracy on test data from sam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75% accuracy on test data from differen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5CD-635F-4493-BE09-1A5E6864098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C013C-02C7-4722-8C7B-6D03A7D17A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utomatically identified utt units: 3.3% ins, 6.6% del, 13.5%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As are easiest/hardest to det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9680" y="2133720"/>
          <a:ext cx="5639040" cy="3644640"/>
        </p:xfrm>
        <a:graphic>
          <a:graphicData uri="http://schemas.openxmlformats.org/drawingml/2006/table">
            <a:tbl>
              <a:tblPr/>
              <a:tblGrid>
                <a:gridCol w="1752840"/>
                <a:gridCol w="1295280"/>
                <a:gridCol w="1295280"/>
                <a:gridCol w="12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.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.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.e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-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1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6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-m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2E1-A037-4D27-8A46-9886B145992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D66EB-7E7E-463B-AC4D-846F00FF74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‘grammar’ of DAs in Spoken Dialogu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initial words perform as well a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D17-6E5E-4BDB-AB26-3DB3B67FAF5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43160-580C-4FC6-BA5B-C55BE500E1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tic, Prosodic, and Lexical Context Cues to DA Disambig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Prosodic information may be important for disambiguating shorter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ASR errors suggest it would be useful to limit the role of lexical content in DA disambiguation as much as possible …and that this i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ople distinguish one (short) DA from another purely from phonetic/acoustic/prosodic c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y better with lexical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A03-71FA-41B2-A026-68EFD7FAAE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F5D2E-2265-4563-9482-B73F20AB72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umbia Games Corp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pontaneous task-oriented dyadic conversations in Standard American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bjects playing a computer game, no eye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705" b="2810"/>
          <a:stretch/>
        </p:blipFill>
        <p:spPr>
          <a:xfrm>
            <a:off x="990720" y="3562200"/>
            <a:ext cx="355572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72800" y="30891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Descri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21920" y="3087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Foll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00600" y="3562200"/>
            <a:ext cx="3556080" cy="2610000"/>
            <a:chOff x="4800600" y="3562200"/>
            <a:chExt cx="3556080" cy="26100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705" b="2810"/>
            <a:stretch/>
          </p:blipFill>
          <p:spPr>
            <a:xfrm>
              <a:off x="4800600" y="3562200"/>
              <a:ext cx="3556080" cy="261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867360" y="5432400"/>
              <a:ext cx="37152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CF6-092F-4E70-8F56-709DF0D06BC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BA76B-E927-46F4-907D-E2612779C2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752480"/>
            <a:ext cx="1905120" cy="4267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4572000" cy="4800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1920" y="3581280"/>
            <a:ext cx="609480" cy="304920"/>
          </a:xfrm>
          <a:prstGeom prst="roundRect">
            <a:avLst>
              <a:gd name="adj" fmla="val 16667"/>
            </a:avLst>
          </a:prstGeom>
          <a:solidFill>
            <a:srgbClr val="ff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umbia Games Corp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ative Cu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4680" y="1767960"/>
            <a:ext cx="21337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ot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u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m-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ka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h-hu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981080" y="2513160"/>
            <a:ext cx="2361960" cy="3125520"/>
            <a:chOff x="1981080" y="2513160"/>
            <a:chExt cx="2361960" cy="3125520"/>
          </a:xfrm>
        </p:grpSpPr>
        <p:sp>
          <p:nvSpPr>
            <p:cNvPr id="108" name=""/>
            <p:cNvSpPr/>
            <p:nvPr/>
          </p:nvSpPr>
          <p:spPr>
            <a:xfrm flipV="1">
              <a:off x="1982880" y="2514240"/>
              <a:ext cx="2360160" cy="12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513160"/>
              <a:ext cx="23601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732120"/>
              <a:ext cx="2361960" cy="19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3732120"/>
              <a:ext cx="2361960" cy="152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1080" y="3732120"/>
              <a:ext cx="2361960" cy="12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732120"/>
              <a:ext cx="2361960" cy="83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732120"/>
              <a:ext cx="2361960" cy="4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3732120"/>
              <a:ext cx="236196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981080" y="3505320"/>
              <a:ext cx="2361960" cy="22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81080" y="3123720"/>
              <a:ext cx="236196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981080" y="2819160"/>
              <a:ext cx="2361960" cy="9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2238480"/>
            <a:ext cx="3990960" cy="1084320"/>
            <a:chOff x="4572000" y="2238480"/>
            <a:chExt cx="3990960" cy="1084320"/>
          </a:xfrm>
        </p:grpSpPr>
        <p:sp>
          <p:nvSpPr>
            <p:cNvPr id="122" name=""/>
            <p:cNvSpPr/>
            <p:nvPr/>
          </p:nvSpPr>
          <p:spPr>
            <a:xfrm>
              <a:off x="4572000" y="2238480"/>
              <a:ext cx="35337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08560"/>
              <a:ext cx="155232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989440"/>
              <a:ext cx="39909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09880" y="1784520"/>
            <a:ext cx="510552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ment / Agre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beginning discourse seg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e ending discourse seg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with the interlocu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ll / Fi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from a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eral mod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vo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vot 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809880"/>
            <a:ext cx="2057400" cy="2057400"/>
          </a:xfrm>
          <a:prstGeom prst="wedgeRectCallout">
            <a:avLst>
              <a:gd name="adj1" fmla="val -67361"/>
              <a:gd name="adj2" fmla="val -54939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0040" indent="-66600">
              <a:lnSpc>
                <a:spcPct val="100000"/>
              </a:lnSpc>
              <a:tabLst>
                <a:tab algn="l" pos="0"/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45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15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ok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11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8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7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66600">
              <a:lnSpc>
                <a:spcPct val="100000"/>
              </a:lnSpc>
              <a:tabLst>
                <a:tab algn="l" pos="0"/>
                <a:tab algn="r" pos="16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373-B312-4669-9F8D-5B3DD3EADF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B38A1-CC89-4930-904B-D69DC0008A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65040" y="3505320"/>
            <a:ext cx="2133720" cy="441360"/>
            <a:chOff x="365040" y="3505320"/>
            <a:chExt cx="2133720" cy="441360"/>
          </a:xfrm>
        </p:grpSpPr>
        <p:sp>
          <p:nvSpPr>
            <p:cNvPr id="130" name=""/>
            <p:cNvSpPr/>
            <p:nvPr/>
          </p:nvSpPr>
          <p:spPr>
            <a:xfrm>
              <a:off x="365040" y="3505320"/>
              <a:ext cx="2133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804960" indent="-347760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okay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1920" y="358128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86000" y="3581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but it's gonna be below the o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97280" y="1784520"/>
            <a:ext cx="5041800" cy="1796760"/>
            <a:chOff x="3797280" y="1784520"/>
            <a:chExt cx="5041800" cy="1796760"/>
          </a:xfrm>
        </p:grpSpPr>
        <p:sp>
          <p:nvSpPr>
            <p:cNvPr id="134" name=""/>
            <p:cNvSpPr/>
            <p:nvPr/>
          </p:nvSpPr>
          <p:spPr>
            <a:xfrm>
              <a:off x="3797280" y="1784520"/>
              <a:ext cx="504180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05600" indent="-2714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ue beginning discourse seg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65520" y="2989440"/>
              <a:ext cx="39909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9880" y="1784520"/>
            <a:ext cx="4953240" cy="1796760"/>
            <a:chOff x="3809880" y="1784520"/>
            <a:chExt cx="4953240" cy="1796760"/>
          </a:xfrm>
        </p:grpSpPr>
        <p:sp>
          <p:nvSpPr>
            <p:cNvPr id="137" name=""/>
            <p:cNvSpPr/>
            <p:nvPr/>
          </p:nvSpPr>
          <p:spPr>
            <a:xfrm>
              <a:off x="3809880" y="1784520"/>
              <a:ext cx="495324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ackcha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5520" y="2608200"/>
              <a:ext cx="155268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9880" y="1784520"/>
            <a:ext cx="4876920" cy="1796760"/>
            <a:chOff x="3809880" y="1784520"/>
            <a:chExt cx="4876920" cy="1796760"/>
          </a:xfrm>
        </p:grpSpPr>
        <p:sp>
          <p:nvSpPr>
            <p:cNvPr id="140" name=""/>
            <p:cNvSpPr/>
            <p:nvPr/>
          </p:nvSpPr>
          <p:spPr>
            <a:xfrm>
              <a:off x="3809880" y="1784520"/>
              <a:ext cx="487692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bbe0e3"/>
                </a:buClr>
                <a:buFont typeface="Arial"/>
                <a:buChar char="–"/>
                <a:tabLst>
                  <a:tab algn="l" pos="47307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cknowledgment / Agree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65520" y="2238480"/>
              <a:ext cx="3533760" cy="333360"/>
            </a:xfrm>
            <a:prstGeom prst="roundRect">
              <a:avLst>
                <a:gd name="adj" fmla="val 16667"/>
              </a:avLst>
            </a:prstGeom>
            <a:solidFill>
              <a:srgbClr val="ff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0" y="48769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okay  alright  I'll try it  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the owl is b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2096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yeah um there's like there's some space there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Speaker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n-US" sz="2000" spc="-1" strike="noStrike" u="sng">
                <a:solidFill>
                  <a:srgbClr val="1b24d3"/>
                </a:solidFill>
                <a:uFillTx/>
                <a:latin typeface="Arial"/>
                <a:ea typeface="MS Gothic"/>
              </a:rPr>
              <a:t>ok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   I think I got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0120" y="2666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0120" y="3886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5C9-77E6-4C34-A9F0-9FBC8360B2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F748C-981B-47CF-A124-573629D6B8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494E-006 L -0.23333 -0.05793 E">
                                      <p:cBhvr>
                                        <p:cTn id="3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73494E-006 L -0.23073 0.08619 E">
                                      <p:cBhvr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3494E-006 L -0.23264 0.23123 E">
                                      <p:cBhvr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64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17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1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61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564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17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065120" y="5153040"/>
            <a:ext cx="2283840" cy="868320"/>
            <a:chOff x="4065120" y="5153040"/>
            <a:chExt cx="2283840" cy="868320"/>
          </a:xfrm>
        </p:grpSpPr>
        <p:sp>
          <p:nvSpPr>
            <p:cNvPr id="148" name=""/>
            <p:cNvSpPr/>
            <p:nvPr/>
          </p:nvSpPr>
          <p:spPr>
            <a:xfrm>
              <a:off x="4178520" y="5153040"/>
              <a:ext cx="1904760" cy="533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5120" y="565308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ntextualize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‘okay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 instances of ‘okay’ (18 for each fun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kens for each ‘okay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condition: Only the word ‘oka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ized condition: 2 full speaker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rn containing the target ‘okay’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turn by the other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54080" y="5216400"/>
            <a:ext cx="7556040" cy="420840"/>
            <a:chOff x="1054080" y="5216400"/>
            <a:chExt cx="7556040" cy="420840"/>
          </a:xfrm>
        </p:grpSpPr>
        <p:sp>
          <p:nvSpPr>
            <p:cNvPr id="153" name=""/>
            <p:cNvSpPr/>
            <p:nvPr/>
          </p:nvSpPr>
          <p:spPr>
            <a:xfrm>
              <a:off x="2577960" y="5267160"/>
              <a:ext cx="5895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77960" y="5572080"/>
              <a:ext cx="603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7960" y="5537160"/>
              <a:ext cx="9140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01840" y="5537160"/>
              <a:ext cx="76176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1120" y="5229360"/>
              <a:ext cx="106668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16240" y="5229360"/>
              <a:ext cx="144756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2920" y="5537160"/>
              <a:ext cx="144756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15120" y="5232240"/>
              <a:ext cx="469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4080" y="521640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pea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171520" y="5267160"/>
              <a:ext cx="304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1520" y="541980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720" y="52689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b24d3"/>
                  </a:solidFill>
                  <a:latin typeface="Arial"/>
                  <a:ea typeface="MS Gothic"/>
                </a:rPr>
                <a:t>ok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E5B-6096-485D-8102-8F604DFE43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56E31-CEC3-469B-A225-F5B28166AE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genstein ’53, Austin ’62 and Searle ’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to dialogue are actions performed by speak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promise to make you very very sorry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Performative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of conveying the ‘meaning’ of the sentence uttered (e.g. committing the Speaker to making the hearer so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I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associated with the verb uttered (e.g. promi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Perlocutionary 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the act of producing an effect on the Hearer (e.g. threa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25E-6B57-450F-B411-6759AD4BC2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F0433-68B9-40AE-9AC5-DE8E5E36D2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:  54 isolated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 54 contextualized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asked to classify each token of ‘okay’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 / Agreement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channel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 discourse se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C29-510D-4368-8FA1-CB150F2D337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34DDA-A4C8-4DB5-9962-E6CBFC6BE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Given to the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/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ndicates “I believe what you said” and/or “I agree with what you sa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chan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sponse to another speaker's utterance that indicates only “I’m still here” or “I hear you and please continu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 discourse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arks a new segment of a discourse or a new topic. This use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replaced by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B27-5EC2-4FE3-8113-C6A104F8B8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7D6BD-EF2F-4FB4-9447-2AD7C4D698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Stu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and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paid subjects (10 female, 10 ma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s between 20 and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speakers of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ar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on a laboratory workstation with headph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710-7651-4F6F-A9EF-4203D531309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BC35F-75F9-4278-85EF-957350815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Subject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pa measure of agreement with respect to chance (Fleiss ’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2895480"/>
          <a:ext cx="8001000" cy="1976400"/>
        </p:xfrm>
        <a:graphic>
          <a:graphicData uri="http://schemas.openxmlformats.org/drawingml/2006/table">
            <a:tbl>
              <a:tblPr/>
              <a:tblGrid>
                <a:gridCol w="3029040"/>
                <a:gridCol w="2228760"/>
                <a:gridCol w="2743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Condi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ized Condi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k / Agree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ann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 beginning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5880240" y="2743200"/>
            <a:ext cx="31240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810-C5A8-4075-AF52-7597D8B7535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060A9-1802-4DFD-8B87-EFEBD63445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s to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c transcription of ok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ong correlation for realization of </a:t>
            </a:r>
            <a:r>
              <a:rPr b="0" lang="en-US" sz="2500" spc="-1" strike="noStrike">
                <a:solidFill>
                  <a:srgbClr val="000000"/>
                </a:solidFill>
                <a:latin typeface="Ipa-samd Uclphon1 SILDoulosL"/>
                <a:ea typeface="Ipa-samd Uclphon1 SILDoulosL"/>
              </a:rPr>
              <a:t>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tial vow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/Agree, Cu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iz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trong correlations found for phonetic vari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10080" y="1403280"/>
            <a:ext cx="1752840" cy="461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15200" y="1523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278000" y="3351240"/>
            <a:ext cx="2274840" cy="689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56700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17E-A06D-42A7-A7A3-5AA9675179E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C97A4-39AA-4445-A76B-59807D80B2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52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52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s to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295280"/>
          <a:ext cx="8229600" cy="4415040"/>
        </p:xfrm>
        <a:graphic>
          <a:graphicData uri="http://schemas.openxmlformats.org/drawingml/2006/table">
            <a:tbl>
              <a:tblPr/>
              <a:tblGrid>
                <a:gridCol w="1909800"/>
                <a:gridCol w="2792520"/>
                <a:gridCol w="3527280"/>
              </a:tblGrid>
              <a:tr h="4834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ized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k /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er /k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Shorter latency between t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Shorter pause before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High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High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More words by S2 before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Fewer words by S1 after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ow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overal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ower final pitch 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Longer latency between t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9e4"/>
                          </a:solidFill>
                          <a:latin typeface="Arial"/>
                        </a:rPr>
                        <a:t>More words by S1 after </a:t>
                      </a:r>
                      <a:r>
                        <a:rPr b="0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080" y="5867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640" y="5867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S1 = Utterer of the target ‘okay’.   S2 = The other speak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" y="1295280"/>
            <a:ext cx="8077320" cy="4876920"/>
            <a:chOff x="685800" y="1295280"/>
            <a:chExt cx="8077320" cy="4876920"/>
          </a:xfrm>
        </p:grpSpPr>
        <p:sp>
          <p:nvSpPr>
            <p:cNvPr id="186" name=""/>
            <p:cNvSpPr/>
            <p:nvPr/>
          </p:nvSpPr>
          <p:spPr>
            <a:xfrm>
              <a:off x="5105520" y="1295280"/>
              <a:ext cx="3657600" cy="441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5867280"/>
              <a:ext cx="7848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2D2-C388-4421-BF53-49B7DEEED40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2E451-D438-4B37-B2DC-74EC1AB36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context improves inter-subject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beginnings easier to disambiguate than the other two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s to interpre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 features override wor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Final pitch slope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oth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to gener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C51-0BA8-483B-AF3E-736B6EF2E2F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2A941-F306-4677-ADBF-88A56AC111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Dialogue Act Modeling for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potentially feasible, even when transcription is err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ic and lexical cues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results may be more useful for generation than for recognition, i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DA realization, lexical and proso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86E-422F-4004-AC69-2121D3B9F4E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2F47F-550D-43DD-B390-D68EBA0204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&amp;M 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schberg et al ’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berg et al ’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hmer et al ‘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7A7-6A2B-4074-86B8-B33CB30E5D3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14244-D697-4F79-B715-DC95102FD0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le’s Classifica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s:  commit S to the truth of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world is fl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ves:  attempt by S to get H to do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Open the window pl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ves: commit S to do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’ll do it tomor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ves: S’s description of his/her own feelings about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’m sorry I screa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: S brings about a change in the world by virtue of uttering X (e.g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divorce you, I r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4E5-17A4-4982-8BC7-7C2AB222C5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B64E9-DCF8-4F5B-A77B-00EC99A122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correspond to Illocutionary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 Modeling Spoken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ding schemes (e.g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MS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-to-many mapping between DAs a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greement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DA can realized b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kay, Um, Right, Yeah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But each of these can express multiple DAs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: You should take the 10pm f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: Ok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that sounds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but I’d prefer an earlier f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5eb54b"/>
                </a:solidFill>
                <a:latin typeface="Arial"/>
              </a:rPr>
              <a:t>(I’m lis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C1C-0AC8-4396-B90B-A953FAAA5C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CF9F1-A334-4F2B-B9A0-F639A0A61B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ible Coding Scheme for 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tual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ing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're wel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rd-Turn-Recei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s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Ritualistic==No, code all of these as w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k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not done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548-75BB-4EAD-8E4C-5D0BB1BD7D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64DD5-D8A7-41DC-A661-D1D865D9BE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1788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pic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ing 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ished old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: finishing and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urn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ill your turn (=traditional back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ill my turn (=stalling for time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'm done, it is now your turn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lief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accept your proposi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entertain your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 reject your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 you accept my proposition?  (=yn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940-FF71-4C11-A38D-3FF84A6366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BEE34-A257-4947-9BA2-0F47D0ABB6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oken Dialogu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sambigu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rren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user input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x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Language Models for A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tates in semant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du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for next system turn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8F3-D71D-4FB3-83DA-E6ED202086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5F99-5B13-4D2B-BCE5-6ED49225F8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mbiguating Ambiguous DAs Into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 (Can/would/would..willing)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 you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ould you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ould you be willing to move the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erson &amp; Chu-Carroll ’99:  Can info-requests be disambiguated reliably from action-reque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sodic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poli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D3D-1DAF-4CE3-A08C-FD3D0011C4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99F6-7CA3-4B36-81F8-CEB37C582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2003-04-02T14:27:17Z</cp:lastPrinted>
  <dcterms:modified xsi:type="dcterms:W3CDTF">2007-07-20T05:46:17Z</dcterms:modified>
  <cp:revision>581</cp:revision>
  <dc:subject/>
  <dc:title>No Slide Title</dc:title>
</cp:coreProperties>
</file>