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EE6B-8B13-4FFB-ABEB-89A61D2C6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‘.’ corresponds to 0.25 sec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089-2BE9-4437-8A1A-ED24C8A0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072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888-BB87-4F55-B392-43A34100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428-7ABB-488F-927C-2A97E00B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072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072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072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1F0-7494-44BE-9431-A39B2297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FF6-4532-496F-942B-409D67C3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260-F6A3-463E-928C-93F1848E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713-4FC2-4D43-A954-B0A21178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D56-8450-423F-A0A8-6CC5BF65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18F-5F48-4F5B-8A4D-9FB73883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A6C-D1A2-4852-BBBF-ABB20CD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07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25F-228F-4B08-9CDF-B9B431C0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072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31C-41D6-44D4-8BF8-5C956D32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43C0-8348-4D52-8F91-75A2F129D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mosamples.syntheticspeech.de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dc.upenn.edu/Catalog/LDC2002S28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1.cs.columbia.edu/nlp/emotion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 47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irschberg (thanks to Jackson Liscombe and Lauren Wilcox for some sli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 Intercor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76520"/>
          <a:ext cx="8229600" cy="4091040"/>
        </p:xfrm>
        <a:graphic>
          <a:graphicData uri="http://schemas.openxmlformats.org/drawingml/2006/table">
            <a:tbl>
              <a:tblPr/>
              <a:tblGrid>
                <a:gridCol w="1290600"/>
                <a:gridCol w="484200"/>
                <a:gridCol w="727200"/>
                <a:gridCol w="725400"/>
                <a:gridCol w="646200"/>
                <a:gridCol w="725400"/>
                <a:gridCol w="725400"/>
                <a:gridCol w="727200"/>
                <a:gridCol w="725400"/>
                <a:gridCol w="646200"/>
                <a:gridCol w="806400"/>
              </a:tblGrid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p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0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0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str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0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0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p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0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3932640" y="57150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 &lt; 0.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7B5-7D7F-4A8F-9390-817FEF59D2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s are heavily cor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with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with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s are non-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hey be clustered empir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8CB-59F4-4E68-8735-841ED04494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itch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06440" y="1531800"/>
            <a:ext cx="6529320" cy="456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191120" y="51055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343400" y="21337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533520"/>
            <a:ext cx="7238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33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6094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Valence/Ac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6F4-A72E-46A1-858D-17C621ED6AA5}" type="slidenum">
              <a:t>12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26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19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Valence/Same Ac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06440" y="1531800"/>
            <a:ext cx="6529320" cy="4562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57880" y="5105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0C8-E37B-4948-B329-33C2AE66B2DD}" type="slidenum">
              <a:t>1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19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1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Acoustic-proso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Davitz, 1964] [Huttar, 196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characte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national Conto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Mozziconacci &amp; Hermes,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Ti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Banse &amp; Scherer, 1996] [Ang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et al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200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EC3-588A-4563-9E46-629EF4CA9B0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 Learning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PPER 90/10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classification for each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% average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average accurac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ustic-prosodic features for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H-L%/ for negative; /L-L%/ f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tilt for val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A13-10F9-4295-A1A1-2815A468D0B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Distinguishing One Emotion from the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394000" y="1754280"/>
          <a:ext cx="4356000" cy="4379760"/>
        </p:xfrm>
        <a:graphic>
          <a:graphicData uri="http://schemas.openxmlformats.org/drawingml/2006/table">
            <a:tbl>
              <a:tblPr/>
              <a:tblGrid>
                <a:gridCol w="1936800"/>
                <a:gridCol w="1209600"/>
                <a:gridCol w="12096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p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0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str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0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FE0-47A2-4361-B2EE-D6B667A1AA4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Cente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&amp;T’s “How May I Help You?”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oft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g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ust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A9B-E58A-4502-94E5-DC2C348EAD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966960"/>
            <a:ext cx="7238880" cy="4824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IHY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5240" y="20937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Ve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rust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480" y="469260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omewhat Frust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724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21337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976-F9C5-4267-B52C-EC768263C283}" type="slidenum">
              <a:t>18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39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ch, Energy and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228600" y="1413000"/>
          <a:ext cx="9296280" cy="52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413000"/>
                    <a:ext cx="929628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E11-AD4F-4C2A-81E4-1C058D3FF8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tudy emotional spee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modeling emotional speech so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and perception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Quality features:  the holy gr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D6D-E314-4072-B373-B9B109039B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Acoustic-pros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Cauldwell, 200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Schröder, 2003] [Brennan, 199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gma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Ang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et al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2002] [Lee &amp; Narayanan, 20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57C-A857-45FB-8433-C022460E6F6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600200"/>
          <a:ext cx="7772400" cy="45259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. Improv.  over Bas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ity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+l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+lex+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2DC-0435-4E81-88D0-C1EA8A316B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ng Systems Should Respond to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 [Pon-Barry et al. 20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ing to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ing vs. 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exa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p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 improvement by responding to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2F9-CA22-46B9-9302-26DCE2DFF59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uncertainty sound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76640" y="293364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477120" y="4191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22240" y="499896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5EF-1288-4396-BB3B-357FC9F8F2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29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839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89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622440"/>
            <a:ext cx="8229600" cy="563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65360" y="39369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581280" y="3936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16320" y="441972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[pr01_sess00_prob5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7EC-B7B3-421B-AE01-E15AE50878C0}" type="slidenum">
              <a:t>24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775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257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456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in ITSp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17600" y="55008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[71-67-1:92-11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&lt;sigh&gt; I don’t even think I have an idea here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.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ss isn’t weight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.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ss is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...........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.....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ce that an object takes up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...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at m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E89-A0BF-4EB0-BC1E-0A36FE7D22CD}" type="slidenum">
              <a:t>25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054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pok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Human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Boost(C4.5) 90/10 split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Uncert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ert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8120" y="3665520"/>
          <a:ext cx="4419360" cy="2643120"/>
        </p:xfrm>
        <a:graphic>
          <a:graphicData uri="http://schemas.openxmlformats.org/drawingml/2006/table">
            <a:tbl>
              <a:tblPr/>
              <a:tblGrid>
                <a:gridCol w="2438280"/>
                <a:gridCol w="19810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ustic-prosod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context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breath-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277-D470-4DAA-9268-8C6F399B4AB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pok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676520"/>
          <a:ext cx="6096240" cy="21920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-mea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523880" y="3733920"/>
          <a:ext cx="6096240" cy="2047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ed 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0A7-4ADD-4D89-9D91-506E37BCB8D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 Quality and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ual co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d from a variety of laryngeal and supralarynge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, creaky, whispered, harsh, breath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es with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er ‘80, Scherer ‘86, 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Murray&amp; Arnott ’93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kkanen ’96, Johnstone &amp; Scherer ’99, Gobl &amp; Chasaide, ‘03, Fernandez ‘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48040" y="3429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91508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98176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781360" y="34290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F4F-C4CB-4B32-8A7D-B2FC8A382BE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ation Ges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983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ive tension: interarytenoid muscles adduct the arytenoid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ompression: adductive force on vocal processes- adjustment of ligamental glot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inal pressure: tension of vocal f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4419720" cy="39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D57-96DE-42BE-9393-762A2D4CA1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tudy emotional spee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-care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agents (Wildf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‘emotional speech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ttle understood, so hard to produce: …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voice that sounds friendly, sympathetic, authoritativ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T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174-4C6F-4698-B7F5-874D2C2889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al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al” m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ar adjustments mode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on of vocal folds periodic, full closing of glottis, no audible 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vibration and loudness in low to mid range for conversational spee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5880" y="6094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FF4-E431-43C3-8B3E-798BC81674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002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trong tension of vocal folds, very high tension in vocal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4983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The image “file:///c:/Documents%20and%20Settings/Lauren%20Wilcox/Desktop/Harsh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4076640" y="2057400"/>
            <a:ext cx="5067360" cy="4491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943600" y="533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8EF-9FC7-4742-808A-E24773B05B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117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sper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4038480" cy="4983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38680" y="1295280"/>
            <a:ext cx="335304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ow adductive 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ompression moderate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inal tension moderate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or no vocal fold v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 generated by friction of air in and above laryn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The image “file:///c:/Documents%20and%20Settings/Lauren%20Wilcox/Desktop/Whisper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0" y="1219320"/>
            <a:ext cx="5524560" cy="4895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324480" y="6094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BFB-EF21-4439-87DB-3286BDC0D6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592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ky 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l fold vibration at low frequency, ir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ension (only ligamental part of glottis vib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cal folds strongly ad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inal tension w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ly high medial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15280" y="3786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81640" cy="3971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095880" y="53352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1EC-B1DD-4410-B44A-0F091A50BC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98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98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thy 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adductive 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 medial com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longitudinal vocal fold ten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l folds do not come together completely, leading to f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8320" y="2149560"/>
            <a:ext cx="4038480" cy="3579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2DB-75EB-46CD-AFF8-4BD0AC5D48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097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ng Voic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wrt controlled neutr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ow do we know the control is truly “neutral”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must match the natural laryngeal behavior to laboratory “neut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knowledge of models of vocal fold movements may be inadequate for describing real ph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relationships between acoustic signal and voice source are compl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an observe behavior of voicing indirectly so prone to erro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ource data obtained by invasive techniques which may interfere with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023-23A0-41FD-947D-753A360BD5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ptive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AC5-2B8A-4D30-A4F5-B9C9D66341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 in Spoken Dialogu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liner, Huber, Fischer, Spilker,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mobil (Wizard of Oz scena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, Dhillon, Krupski, Shriberg, Stolc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PA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combe, Guicciardi, Tur, Gokken-Tur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y I Help You?” cal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, Narayan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works call-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combe, Hirschberg, Venditti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poke Tutoring System (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D92-58F3-4342-907C-38FFC35852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emotional speech so hard to mode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oquial definitions of speakers and liste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terances may convey multiple emotion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consensus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get reliable train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B30-BE4B-4ADF-A5F0-8128C8B88A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ous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s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ampbell, 2003] [Roach, 2000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owie et al.,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Vidrascu &amp; Devillers, 2005] [Ang et al., 200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Litman and Forbes-Riley, 2004] [Batliner et al., 200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Lee &amp; Narayanan, 20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Wrede and Shriberg, 200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040" y="196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764-E416-4926-96D6-E8319FEF056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784160"/>
            <a:ext cx="29844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st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57760" y="838080"/>
            <a:ext cx="370044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83800" y="4319640"/>
            <a:ext cx="2439360" cy="23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xi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ed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6765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8769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5146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8A1-79C4-4C07-A48F-6A21637B4E16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7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4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48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71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75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DC Emotional Prosody and Transcripts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ally neutral (dates and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e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68A-2533-48C3-805A-B6048CEE41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motions Mutually Exclu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tudy to classify tokens from LDC Emotional Prosody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emotions on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: confident, encouraging, friendly, happy, inter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: angry, anxious, bored, frustrated, 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7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0BD-0815-4CBD-B607-3FC2C26DA0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1:42:24Z</dcterms:created>
  <dc:creator/>
  <dc:description/>
  <dc:language>en-US</dc:language>
  <cp:lastModifiedBy>julia hirschberg</cp:lastModifiedBy>
  <dcterms:modified xsi:type="dcterms:W3CDTF">2006-04-16T21:42:10Z</dcterms:modified>
  <cp:revision>170</cp:revision>
  <dc:subject/>
  <dc:title>Emotional Speech</dc:title>
</cp:coreProperties>
</file>