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E6A5-28CF-4C4B-B9DE-19B450BA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3912-188E-413E-8256-268E4FD2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8DC7-C2E3-49AB-B50E-FFBCB261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C8C0-22AF-4477-8FEA-F98A05BAF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1BDC-F748-4EA1-A25E-19C5D627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CE14-71AC-408B-A507-2071F795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C757-7491-4221-A769-0904494E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4A8B-E248-4D49-AF37-F6A82D6B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DFCB-1344-4E88-9154-35A6D47D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CA1C-02BC-412C-9D91-353E32BB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554F-7564-4C09-9383-03C128B3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B235-0735-402E-B9C7-A97C0F5C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561C-1D0D-471B-9655-D61DDA5BC8E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CBD7-D439-4C5A-828C-BD758F265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bowland-files.lancs.ac.uk/staff/greg/talk.htm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news.bbc.co.uk/onthisday/low/dates/stories/september/7/newsid_2502000/2502781.stm" TargetMode="External"/><Relationship Id="rId2" Type="http://schemas.openxmlformats.org/officeDocument/2006/relationships/hyperlink" Target="http://www.margaretthatcher.org/media/" TargetMode="External"/><Relationship Id="rId3" Type="http://schemas.openxmlformats.org/officeDocument/2006/relationships/hyperlink" Target="http://newswww.bbc.net.uk/1/hi/uk_politics/4385581.stm" TargetMode="Externa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bbc.co.uk/bbcfour/audiointerviews/profilepages/thatcherm1.shtml" TargetMode="Externa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1.cs.columbia.edu/~julia/papers/limsi04.pdf" TargetMode="Externa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2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rn-Taking, Grounding and Dia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ia Hirsch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A07 3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28BC-B771-40EE-ACE4-00AFDE99F5C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1CD13A-34AC-42D3-B1DB-E29F86C51E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Allocation Techniques: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Next Speaker (cont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1720"/>
            <a:ext cx="82296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epeat parts of prior utterance with a question intonation or one word ques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gotta –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a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ri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ird Aven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A10F-A947-4CE4-9456-5B2A894B552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CD39E8-7098-43B4-8673-EA69FA4D8A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Allocation Techniques: Select Next Speaker (cont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ag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know?  Don’t you agr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troduce social ident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uples speaking.  An invitation is made by a speaker to go to the movies.  The next speaker should be a member of the other coup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4B48-D6C4-4774-996F-A4EA0BFCBC1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3791E-8282-4EE9-9BE2-89F7787FFB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Allocation Techniques:  Self-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tarting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“Second Starter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:  Hey::, the place looks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:  Yeah::h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:  Ya have to see all ou[r new-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[It does?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:  Oh ye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4E1B-5A89-4C08-A0F3-4658B679C2C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7D294-3D3F-402B-93C8-8361382D18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quences of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 for listening to all utterances in a convers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ee if you are the next spea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want to speak, make sure no one else was selected to s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new speaker is selected, the speaker has to perform the second part of the adjacency pai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s he understood the prior turn’s talk as the first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9152-DC2E-4C3F-B335-69B7A9C1209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3AE87-F7CE-40AE-B04F-F7FAEBCF5F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-taking behaviors in human-human conver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/circumstanc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ationa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guistic/cultural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take and give up tur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rization:  Automatic Turn 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D320-D334-46BE-8ADF-6E4A003B541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E97C6-E21C-4EFC-B7A2-F193F23640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-taking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logue characterized by t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urn-t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speakers know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ay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ay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ational partner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p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rtain patterns of behavior in normal conver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ou got an A?  That’s grea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is: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eah, I’m really smart you k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is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 was just lucky I happened to read the chapter on dialogue systems right before the test.  Otherwise I never would have squeaked throu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patterns in ordinary conver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ation is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6AA0-E0B7-4746-B7C4-DDD84603194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A6F345-593F-423F-91C3-4F04D0603A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 learn turn taking within first 2 years (Stern ’7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individual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y people pause longer and speak less and less often (Pilkonis ’7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izophrenics, neurotics, depressed people less skilled in turn-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C137-5C1A-4B26-9580-905F24865998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03BC29-52B3-4F4C-A344-0BAE103281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ations of What to Say May Depend on Task at 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t: Hell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hris: Hi, Pat.  It’s Chr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t: H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ings (6-tur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hris: Well, I just wanted to see how you were do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t: Thanks for calling. We'll have to have lunch some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hris: I'd like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t: Ok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hris: Ok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t: See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hris: Yeah, see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0D4D-C1FB-4414-993F-0011D88E78F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1F04E2-594F-4B18-BEAB-1D99311AE7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t:  “Hi, can we switch lunch to 12:30?  I’m running lat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hris: “Sure.  12:30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t:  “Great.  See you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encou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lerk:  Good morning.  Is there something I can help you wi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t: Hi.  Yeah.  I wonder if you could show me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oss:  Today I want to focus on next year’s goal statements.  Chris, could you report please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hris: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oss: Pat, now let’s hear from you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t: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s broad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chor: …Chris Smith reports from Rome now on the upcoming conclave.  Chr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porter:  Thanks, Pat…..  And now back to Pat Jones in New Y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3F9E-4826-4B8E-9658-41948F1FDE9B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07E28A-E640-4979-845F-C857AA6965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-taking behaviors in human-human conver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/circumstanc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Conversationa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guistic/cultural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take and give up tur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rization:  Automatic Turn 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9293-F5B5-49B3-A0EE-AFB9BA9D39E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0D8B7D-C7E9-4ED7-8AC3-903763A3F2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Govern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For any turn, at a transition-relevant pla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“current speaker selects next” then the person selected is obligated to take the next tu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, self-selection may be instit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, the current speaker may continue unless someone self-sel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f 1c occurs, then rules a-c reapply at the next transition-relevant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1555-BE85-405E-A635-236CB5503D4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A38CD-8458-49D5-BCCB-509A4C797B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nversational Analys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Sacks et al ’7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characterize expectations of ‘what to say’ more general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’ of turn-t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, during this turn the current speaker has selected A as the next speaker, then A must speak 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current speaker does not select the next speaker, any other speaker may take the next 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one else takes the next turn, the current speaker may take the next 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 Apply at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ransition Relevant Pla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RPs) wher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ows speaker changes to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F60E-922A-4F90-822B-BE8C7C4966A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A81664-95C9-4BE8-B25D-09F98A810F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Can Speaker Shifts Occ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Adjacency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Question/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Greeting/gr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Compliment/downp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Dispreferr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’ to a simple request without expla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the topic abruptly without 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for Spoken Dialogu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4A42-1406-4E3D-975F-E0F01A0B86C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01F6B-DD68-4325-A5D7-3742E116F6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-taking behaviors in human-human conver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/circumstanc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ationa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Linguistic/cultural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take and give up tur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rization:  Automatic Turn 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7191-9657-4F61-AD9D-CC18DF70C8E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EAFF91-75E2-4A7C-A07D-B950B32F9F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al Differences in Turn-T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ese telephone conver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ings (Zhu ’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darin vs. Brit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cation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tish self-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ese callees ask the c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ings (Sun ’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 female-female telephone conver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ings initiated through matter-of-fact statement of intention to end conver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ized thanking occurs except in mother/daughter closings – not the standard English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nish business calls (Halmari ’93) vs. Ameri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s get right to the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ns 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E971-F327-4A6F-B53F-D0ED63915F9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69B203-7232-4C20-967D-D626E5F06F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-taking behaviors in human-human conver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/circumstanc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ationa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guistic/cultural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How do we take and give up tur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rization:  Automatic Turn 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0535-637A-4DE4-9845-7FDF9F08596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99811-0827-4426-89D4-4F5FC89CED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Differences:  British Politicians (Beattie ’8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:  25m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elevised interview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efore 1979 British General 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rgaret Thatch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(Tory leader): the Iron 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im Callagh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(Prime Minister):  Sunny J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nterrup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intelligent, highly neurotic, extrove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 interrupt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ions may ind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re for domi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re for social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yance of ‘joint enthusiasm’, heightened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3497-CD4A-417F-8426-6C2A464FB49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63F874-C428-4924-86F0-DA7B67179F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spkr 2 attempts to take the 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Smooth switc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o simultaneous speech, spkr 1’s utterance complete, turn to spk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Simple interrup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imultaneous speech, spkr 1 doesn’t complete utterance, turn to spk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Overl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imultaneous speech, spkr 1 completes utterance, turn to spk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Butting-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imultaneous speech but no change of turn, spkr 1 keeps the 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Silent interru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pkr 1’s utterance incomplete, no simultaneous speech, turn to spk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17CE-6455-45E6-83DF-47847D1E617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320369-F64D-410B-92DC-550B8A5544A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acoustic/prosodic and gestur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-yielding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aking rate s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l at end of cl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 in pitch or lou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ion of syntactic cl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ure of ter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mpt suppression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ed pa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494E-62B2-4E0B-821E-6843F64FCE7D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B2ACAB-84AA-47E1-9ABB-74CFACECDF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s. Thatcher interrupted almost twice as often as she interrupts interviewer (19/10)– unlike Callaghan (14/2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cher: Starts slow and gets faster, few FPs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aghan: starts fast and gets slower, many FPs (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perception:  Thatcher is domineering in interviews and Callaghan is a ‘nice guy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atcher does not do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hatch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ions come at end of syntactic clause when drawl on stressed syllable in clause and falling into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805B-BBA9-40F0-B5AB-9D1D7C783E6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F55E6-8EAC-43E6-BD69-104E78BF48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uppression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es she do this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ch training before ele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she still perceived as domine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nterrupted she doesn’t cede the floor despite lengthy stretches of simultaneous 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3B9B-216A-4C81-A679-9B2C824988F2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69E013-B65A-424F-A135-AD3CAC5D81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Accounts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ker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arty talking majority of th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currences of more than one speaker at a time are common but br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6167-2CCD-48EB-90A5-6178A0D263C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A1CCA1-9656-4959-8456-1604D17D8E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-taking behaviors in human-human conver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/circumstanc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ationa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guistic/cultural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take and give up tur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Diarization:  Automatic Turn 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3CED-9382-4E87-8DC4-BCBDA5789E7F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A9A051-52B5-42EC-9E3D-27FC2530B6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rization:  Automatic Speaker Identification/Se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2676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audio corpora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roadcast New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eetings, telephone conversations) into speaker se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aker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aker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ch and 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ker segmentation (Diariz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clustering based on acoustic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-of-the-art: 8.47%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DA0A-CF9D-422D-8A8A-990397A4526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C10006-E52B-4C6B-808E-331C12B5F2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k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nguistic informati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o identify speaker types and speaker names (LIMSI ’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lates (“&lt;name&gt; has this report from &lt;location&gt;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: 10.9% error on test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only 10% of segments contain relevant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25% error on broadcast news if segmentation and clustering is done to id all of each speaker’s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9D97-9FF2-4BF4-BD54-3B7B15F4CBC0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D28888-4FC1-4BE8-80A7-50581A149D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NO&gt; CNN19980104.1130.0000 &lt;/DOCNO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TYPE&gt; MISCELLANEOUS TEXT (automatic initial) &lt;/DOC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_TIME&gt; 01/04/1998 11:30:00.00 &lt;/DATE_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EX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TEX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ND_TIME&gt; 01/04/1998 11:30:34.71 &lt;/END_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DOC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NO&gt; CNN19980104.1130.0034 &lt;/DOCNO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TYPE&gt; NEWS STORY &lt;/DOC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_TIME&gt; 01/04/1998 11:30:34.71 &lt;/DATE_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EX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n northern kentucky are forcing 3,000 people in two states to flee the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ho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 fire started early this morning at the cargill company plan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maysville near the ohio riv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uthorities have been going door-to-door advising people in kentucky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ohio to take shelter in area high schoo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 fire is in a building where several fertilizers and chemicals 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st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6240-1F04-43FC-9F1A-3811C98F73D7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6A204F-6272-41B7-B59E-F7B8D2D07E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officials say all they can do is let the fire burn itself out, bec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spraying water on the flames would be too dangero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UR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at the current time, our only way of getting it under control is to st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away fro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we've backed everyone off from the fire by about a mile and a quarter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evacuated homes in that radius and the chief threat at this point is a 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small risk of a very large explosion caused by 400 tons of ammonia nit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stored in the buil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UR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foir people have been taken to hospita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one firefighter was injured and treated on the sce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TEX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ND_TIME&gt; 01/04/1998 11:31:31.00 &lt;/END_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DOC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NO&gt; CNN19980104.1130.0091 &lt;/DOCNO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TYPE&gt; NEWS STORY &lt;/DOC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_TIME&gt; 01/04/1998 11:31:31.00 &lt;/DATE_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EX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uthorities in brooklyn, new york, say an explosion at a tire company h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6246-1612-457C-BA04-254210B9D19B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5F6A52-8CC3-469B-9911-445311B15B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caused at least three buildings to collap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t set off a four-alarm fire, which has been contain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officials tell cnn one person was inju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nvestigators have not determined the cause of the incid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TEX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ND_TIME&gt; 01/04/1998 11:31:48.11 &lt;/END_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DOC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NO&gt; CNN19980104.1130.0108 &lt;/DOCNO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OCTYPE&gt; NEWS STORY &lt;/DOC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_TIME&gt; 01/04/1998 11:31:48.11 &lt;/DATE_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EX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unexpected weather conditions are the rule across much of the united st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is week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ngela astore repor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UR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ANNOTATION&gt; Reporter:  &lt;/ANNOTAT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it was a nice day to play along the beach -- spend a few hours fishing 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or get in a game of golf -- not uncommon -- unless it's january in chica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record high temperatures were set yesterday from minnesota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massachuset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warm air drawn northward from the gulf of mexico was behind the rise in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mercu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4909-18B4-4987-869C-242A4EA47576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6F234F-728C-4EA7-9223-C6A55C4A2A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it was a different scene in the northwest, where snow is the sto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but the winter weather didn't stop this man from getting in some war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pursu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nd he wasn't bothered by the fact that he couldn't see where his go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balls lan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UR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it's not really where it's going to land that's important at this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while you are lear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once you've learned, then it 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we'll worry about that when the snow clea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right now, it's probably better that i don't see where they l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977D-FBDE-4226-A887-802153EDB44E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E896A1-382D-474F-BFAD-6F91EE4391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 of S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Speech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-to-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Language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ED50-A593-42A1-9C60-D5E41E4A5023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671393-F576-4787-8014-142022D366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Overl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ed for by rule 1b (self-selection): Competing for next tur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l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tha’s lost,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e, abou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een p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mora: Oh[::no::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an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[Twelve pounds I thin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n’t i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sy:  [Can you b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ie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l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wel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nds on the Weigh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er’s sc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5190-4EFF-4D98-8BA3-159365A7E81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55698B-824B-49EE-94BA-E63D1E4693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Overlap (cont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you know how the speaker will finis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Well if you knew my argument why did you bother to a:[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: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[Because I’d like to defe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g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eaker added optional elements that can go after comple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en down here befo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havench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Ye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65B2-5CF9-4425-BE97-FA7D0B8590E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D8B89-CA06-487C-A903-BF4862AA92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Order/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fixed yet it’s not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as:  Speaker before the current speaker is selected as the next spe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f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unit types (single-word turns, single phrase turn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rule 1C (current speaker can continue) the speaker can produce more than one uni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F5F6-A3FD-4805-A5D1-2ECC50C2FBA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808CD4-7685-49A1-BD83-23A07D9467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on T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ngth and content of conversations are not specified in adv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the next spe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parties can var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4 you can have multiple convers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s begin at “possible completion poin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airs exist for erro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me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use 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ED21-FF33-4F7F-890E-E9F07FE82E4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65004A-B824-4C05-B5D9-2298F4F19E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or Discontin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k can be continuous or discontin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= minimum gap or overl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ntinuous = a current speaker has stopped and no speaker starts, and non-talk is a lap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: Oh I could drive if you want me 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: Well no I’ll drive (I don’ m//in’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: hh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: I meant to offa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6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: Those shoes look nice when you keep on putting stuff on ‘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: Yeah I ‘ave to get another can cuz cuz it ran out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F335-2A90-4498-B1AF-A49A69CAE49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0FC678-52D6-4EFF-87FF-B360B5E1267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Allocation Techniques:  Select Next Spe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“Type of Sequence” parts.  (Adjacency pairs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aint/den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:  Hey yuh took my chair by the way an’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don’t think that was very n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didn’  take yer chair, it’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iment/re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’m glad I have you for a fri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’s because you don’t have an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129C-90DF-4D30-B796-D277D2F864C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3D7D3-DF50-4A8A-AF4C-F5B5E506E8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17T17:52:10Z</dcterms:created>
  <dc:creator>Julia Hirschberg</dc:creator>
  <dc:description/>
  <dc:language>en-US</dc:language>
  <cp:lastModifiedBy>Julia Hirschberg</cp:lastModifiedBy>
  <cp:lastPrinted>1999-05-22T22:06:30Z</cp:lastPrinted>
  <dcterms:modified xsi:type="dcterms:W3CDTF">2007-07-04T17:32:02Z</dcterms:modified>
  <cp:revision>417</cp:revision>
  <dc:subject/>
  <dc:title>No Slide Title</dc:title>
</cp:coreProperties>
</file>