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3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CE0-D4EC-4257-87F7-8A611B45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AB8-377A-4A45-B13A-3DA432A7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91F-9495-4E6F-A119-2F879159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1A9-C382-4CCC-949F-5613FEC7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C73B-CD61-47EE-8A04-1CCBF9C1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F05D-169D-47E7-BD41-3D824323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76D1-DBC7-4449-89B7-026EAD73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4875-A3C3-4F85-A75D-3EDF82C5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5D13-0918-4078-88D8-38122D25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1B70-4A72-4A44-BB0B-9C431E58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84E8-A9D5-4D91-A212-27A9690C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EBE-8395-4F36-B4EF-DDBB78FA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C7F4-C463-4D13-9A25-7FA4F54E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A74C-28DA-4256-9963-E0256FC8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3A52-3783-4EBE-9C0E-85950922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D9EC-9AC6-4906-B0D2-9E9F3AFA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F30F-0737-44B2-B4CE-DD98D4D6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37E-3AD5-44F7-B2B0-0B1B4DCB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76F-CAC2-4C78-BF56-6D3F1087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A88D-581D-431E-9D4B-DFB52D87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15F-40F7-44BE-B380-5C86905D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533-81A1-4307-981C-203B4CB5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D58-8C17-4419-9A48-FECDB812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E1C-CAE9-48BD-8A82-ECE61490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9343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24852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4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6B0B-F58A-4808-9C5D-AF1391E32A54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A5EA-E905-4334-9024-BD9FDCEF41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8.png"/><Relationship Id="rId5" Type="http://schemas.openxmlformats.org/officeDocument/2006/relationships/image" Target="../media/image15.gi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01560"/>
            <a:ext cx="6629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Games Corpu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624816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implementation and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886200"/>
            <a:ext cx="556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ustín Grav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us@cs.columbia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ken Language Process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bi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bj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ing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umbia’s webpage for temporary job ad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ig’s 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www.craigslist.or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tegory: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Gigs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Event gi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re unrel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50% did not show up, or cancelled with short not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D1F-09C0-4F21-A57B-AB7A2EDBF3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bj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ible solu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precise instructions to e-ma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d inf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me, native speaker?, hearing impairments?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k for a phone numb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l them and explain why it is so important for us that they show up (or cancel with adecuate notic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the pay after each ses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ple: $5, $10, $15 instead of $10, $10, $1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119-43C8-405C-8E85-F26118FDE3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r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nd-proof bo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subjects + 1 or 2 confeder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d-mounted m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Audio Tape (DAT): one channel per speak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v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ono file per speak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rate: 48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wnsampled to 16000 (but kept original files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20 hours of speech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2.8 GB (16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9E4-002F-461E-A38E-A9F7BC4B34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 everything the subjects do to a text f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:03:55:23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GIN_EXECU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:04:04:86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:04:31:83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UL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7 points awa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:04:38:42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:05:03:87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UL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2 points awa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r, this may be used (e.g.) to divide each session into smaller tasks or convers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22D-3D1E-44F3-A96B-A2C23F2072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Games Corp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850"/>
              </a:spcBef>
              <a:buClr>
                <a:srgbClr val="808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Design and Imple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85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2362320"/>
            <a:ext cx="6124320" cy="533160"/>
          </a:xfrm>
          <a:prstGeom prst="roundRect">
            <a:avLst>
              <a:gd name="adj" fmla="val 16667"/>
            </a:avLst>
          </a:prstGeom>
          <a:solidFill>
            <a:srgbClr val="00800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9AD-57F2-484B-9AB7-3754A09123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eech Processing To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praat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eSur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peech.kth.se/wavesur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cri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trans.sourceforge.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290-EFCC-4F83-BBEE-0747B3A2FD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thographic Tier - Method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85720" y="1523880"/>
            <a:ext cx="7381800" cy="461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9C1-FC82-4A93-9131-62DA35D769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thographic Tier - Method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str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consu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parate transcription from align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DF3-57D3-4FA4-B042-000D66D5B7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1219320" y="2236680"/>
            <a:ext cx="7010280" cy="3935520"/>
            <a:chOff x="1219320" y="2236680"/>
            <a:chExt cx="7010280" cy="393552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rcRect l="0" t="0" r="0" b="22652"/>
            <a:stretch/>
          </p:blipFill>
          <p:spPr>
            <a:xfrm>
              <a:off x="1219320" y="2236680"/>
              <a:ext cx="7010280" cy="3935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7" name=""/>
            <p:cNvSpPr/>
            <p:nvPr/>
          </p:nvSpPr>
          <p:spPr>
            <a:xfrm>
              <a:off x="2590920" y="4191120"/>
              <a:ext cx="4267080" cy="81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thographic Tier - Method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cribe chunks using a web interf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470480" y="434340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333440" y="5013360"/>
            <a:ext cx="3984840" cy="2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8CE-741C-4E39-84F2-2BE1A5BFEF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4644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thographic Tier - Method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cribe chunks using a web interf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 each chunk automatic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atenate all chun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ct the alignment by hand using Praat, Wavesurfer or simil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6E1-6041-4734-AA20-17E07A0701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Games Corp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85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85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7E2-B9FE-4691-8954-3285D03FE4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thographic Tier - Method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cription task is very comfort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of the alignment task is done automatically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fine-grain hand corrections are nee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head: chunking, automatic alignment, conc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ror prone! Easy for humans to overlook errors in the automatic align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D10-3B32-4744-B6DA-F6F58E4EAC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thographic Tier - Method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cribe the whole file, us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egular audio player (e.g., Windows Media Player),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egular plain-text editor (e.g., Notep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Wavesurfer to align the wo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text labels”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ou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pectrogram sett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ustomizable shortcu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A3E-3A2E-42DB-902A-237D9A4D91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thographic Ti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cription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 le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brev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flu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mhm, uhhuh, gotcha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ment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cs.columbia.edu/~agus/ga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name/password = speech/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874-41AE-4D7E-B7CD-C574331BD6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o many cook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urrency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e locking webp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otators lock a file before working on it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release it when d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939-91F1-4B0C-94EE-A489A20CD5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notation: Cue Wor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kay, mmhm, uhhuh, right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knowledgment, Backchannel, Segment Beginning, Segment End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d an ad-hoc application in Jav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d idea!!! Too long development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ead, use Praat (or other general-purpose too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simple, specific tasks, Praat is not difficult to lear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a file with empty points at the middle point of the words that need to be label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otators only label those words, safely ignoring the r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AD2-12B0-4B6C-B21E-C1C77E8276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ther Annot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rn swit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ooth switches, interruptions, backchannel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beler received a Praat file with empty tur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so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BI Labeling Conventions: Tones and Break Ind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tion, form and fun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E8D-6732-4A84-BDBD-A73DD83FDF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uidelines for Guideli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based (password protect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light recent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 long lists: categorize, tr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941-F290-46E8-A14B-DB16675FBEC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719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mes/data/session_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N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N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GA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719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= 01..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719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GAME = {cards, objects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719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P = 0..3 if GAME=cards, 0..1 if GAME=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719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Y = {A, B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719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ext = {wav, words, tones, breaks, misc, turns, …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390-AE49-45DF-8A9D-54CEE9E693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mes/data/session_08/s08.cards.3.B.w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08.cards.3.B.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08.cards.3.B.mis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08.objects.1.A.w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08.objects.1.A.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08.objects.1.A.mis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1765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mes/data/session_11/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425-7A64-4C8F-8223-F791B50406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s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files (except *.wav) are saved as plain text, with the WaveSurfer form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art  End  Val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for interval ti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ime  Val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for point ti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-read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easy to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684-7865-4509-893F-6F2508F74F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28760" y="1768320"/>
            <a:ext cx="6124320" cy="533520"/>
          </a:xfrm>
          <a:prstGeom prst="roundRect">
            <a:avLst>
              <a:gd name="adj" fmla="val 16667"/>
            </a:avLst>
          </a:prstGeom>
          <a:solidFill>
            <a:srgbClr val="00800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Games Corp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85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850"/>
              </a:spcBef>
              <a:buClr>
                <a:srgbClr val="808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Anno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FC6-DD94-4F3B-99B3-4ABA676F6C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s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forma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l-purpose mark-up langua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&lt;TAG  attribute=“value”&gt; … &lt;/TAG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lves problems like consistency and round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 human-readable, harder to proc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 human-readable, hard to proc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so has the consistency proble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801-1223-4C12-B701-A408DC5C35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rip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far, we have needed dozens of Perl scrip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 between Praat and WaveSurfer forma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a Praat file with empty CW labels, turn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typos, missing labels, and other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fy notation (e.g., “mm-hmm”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“mmhm”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consistency of fi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8EE-4847-445A-84AB-2E4EBCFAD4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ck-up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-up wav files only once (too heavy) in different places (DVD, 3+ computer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-up everything else (plain text: light) periodically, and automatic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e “cron” to make a backup copy every 8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71B-9FA9-4B00-A77E-7A40F1B5FF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me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thographic tier firs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28600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819520"/>
            <a:ext cx="1371600" cy="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3352680"/>
            <a:ext cx="3733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19520" y="4419720"/>
            <a:ext cx="3657600" cy="0"/>
          </a:xfrm>
          <a:prstGeom prst="line">
            <a:avLst/>
          </a:prstGeom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3886200"/>
            <a:ext cx="6248520" cy="0"/>
          </a:xfrm>
          <a:prstGeom prst="line">
            <a:avLst/>
          </a:prstGeom>
          <a:ln w="5724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850520" y="18288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1520" y="2438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+imp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14200" y="29718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thographic 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98360" y="4052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97680" y="35053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ody (ToB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9720" y="4952880"/>
            <a:ext cx="266688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21880" y="45864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D64-FE5E-483B-A545-582530B39E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01560"/>
            <a:ext cx="6629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Games Corpu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624816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implementation and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3886200"/>
            <a:ext cx="556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ustín Grav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us@cs.columbia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ken Language Process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bi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periment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 Study the relation between the down-stepped contour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tactic 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ourse 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ntaneous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monologue and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E80-B28E-4289-A130-2733638BA8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periment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computer ga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players, each on a different compu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collaborate to perform a common tas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ly unrestricted spee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4114800" cy="15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A3D7-E960-4DDF-849C-BFF6C21B36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4876920" y="76320"/>
            <a:ext cx="4190760" cy="2865240"/>
            <a:chOff x="4876920" y="76320"/>
            <a:chExt cx="4190760" cy="28652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4876920" y="76320"/>
              <a:ext cx="4190760" cy="28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365800" y="156852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876920" y="3276720"/>
            <a:ext cx="4186080" cy="2860560"/>
            <a:chOff x="4876920" y="3276720"/>
            <a:chExt cx="4186080" cy="286056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4876920" y="3276720"/>
              <a:ext cx="4186080" cy="28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200640" y="478476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189840" y="4102200"/>
            <a:ext cx="1228680" cy="1228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219720" y="413244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876920" y="76320"/>
            <a:ext cx="4186080" cy="207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4876920" y="3276720"/>
            <a:ext cx="4186080" cy="207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09480" y="3598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 2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arc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951200"/>
            <a:ext cx="36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 1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cri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ds Game #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279360" y="20318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191120" y="1905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50292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Short monolo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Vary frequency and order of occurrence of objects on the c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F5A-F169-40EF-B268-6DACDCC975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6674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5106960" y="3200400"/>
            <a:ext cx="3959280" cy="2970360"/>
            <a:chOff x="5106960" y="3200400"/>
            <a:chExt cx="3959280" cy="2970360"/>
          </a:xfrm>
        </p:grpSpPr>
        <p:grpSp>
          <p:nvGrpSpPr>
            <p:cNvPr id="180" name=""/>
            <p:cNvGrpSpPr/>
            <p:nvPr/>
          </p:nvGrpSpPr>
          <p:grpSpPr>
            <a:xfrm>
              <a:off x="5106960" y="3200400"/>
              <a:ext cx="3959280" cy="2970360"/>
              <a:chOff x="5106960" y="3200400"/>
              <a:chExt cx="3959280" cy="2970360"/>
            </a:xfrm>
          </p:grpSpPr>
          <p:pic>
            <p:nvPicPr>
              <p:cNvPr id="1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06960" y="3200400"/>
                <a:ext cx="3959280" cy="29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2"/>
              <a:srcRect l="77448" t="6678" r="2805" b="66668"/>
              <a:stretch/>
            </p:blipFill>
            <p:spPr>
              <a:xfrm>
                <a:off x="7404120" y="3397320"/>
                <a:ext cx="782640" cy="79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3" name="" descr=""/>
            <p:cNvPicPr/>
            <p:nvPr/>
          </p:nvPicPr>
          <p:blipFill>
            <a:blip r:embed="rId3"/>
            <a:srcRect l="0" t="10584" r="4088" b="19118"/>
            <a:stretch/>
          </p:blipFill>
          <p:spPr>
            <a:xfrm>
              <a:off x="7467480" y="3848040"/>
              <a:ext cx="67176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5105520" y="76320"/>
            <a:ext cx="3962160" cy="2971800"/>
            <a:chOff x="5105520" y="76320"/>
            <a:chExt cx="3962160" cy="2971800"/>
          </a:xfrm>
        </p:grpSpPr>
        <p:pic>
          <p:nvPicPr>
            <p:cNvPr id="185" name="" descr=""/>
            <p:cNvPicPr/>
            <p:nvPr/>
          </p:nvPicPr>
          <p:blipFill>
            <a:blip r:embed="rId4"/>
            <a:stretch/>
          </p:blipFill>
          <p:spPr>
            <a:xfrm>
              <a:off x="5105520" y="76320"/>
              <a:ext cx="396216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5"/>
            <a:srcRect l="58100" t="6575" r="21891" b="67293"/>
            <a:stretch/>
          </p:blipFill>
          <p:spPr>
            <a:xfrm>
              <a:off x="8175600" y="266760"/>
              <a:ext cx="79236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ds Game #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279360" y="20318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5105520" y="763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8205840" y="276120"/>
            <a:ext cx="762120" cy="758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9"/>
          <a:stretch/>
        </p:blipFill>
        <p:spPr>
          <a:xfrm>
            <a:off x="5105520" y="320040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0"/>
          <a:stretch/>
        </p:blipFill>
        <p:spPr>
          <a:xfrm>
            <a:off x="7440480" y="3400560"/>
            <a:ext cx="762120" cy="758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09480" y="3598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 2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arc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1951200"/>
            <a:ext cx="36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 1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cri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1905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50292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Di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Vary frequency and order of occurrence of objects on the c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992-13A9-460C-8B84-958842D442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218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952880" y="321480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952880" y="763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877160" y="5334120"/>
            <a:ext cx="453960" cy="4712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952880" y="76320"/>
            <a:ext cx="4122720" cy="3090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952880" y="3200400"/>
            <a:ext cx="4122720" cy="3090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s Ga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279360" y="20318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09480" y="3598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 2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arc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951200"/>
            <a:ext cx="36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 1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cri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1905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029200"/>
            <a:ext cx="44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Di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Vary target and surrounding objects (subject and object posi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40E-72ED-41F9-B49C-ADCD5C1222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-0.03334 -0.11111 E">
                                      <p:cBhvr>
                                        <p:cTn id="58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20136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ames Ses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at 3 tim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ds Game #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ds Game #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 break (opt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at 3 tim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s G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subject participated in 2 ses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2 se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609480" cy="415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191120" y="2141640"/>
            <a:ext cx="609480" cy="417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549600" y="25909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222800" y="25909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3505320" y="38862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191120" y="388944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The Games Corpus" - Agustín Gravano - Columbia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AFC-400F-4F56-9412-348A36C063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3:21:37Z</dcterms:created>
  <dc:creator> </dc:creator>
  <dc:description/>
  <dc:language>en-US</dc:language>
  <cp:lastModifiedBy>Agustin Gravano</cp:lastModifiedBy>
  <dcterms:modified xsi:type="dcterms:W3CDTF">2006-09-07T17:41:09Z</dcterms:modified>
  <cp:revision>201</cp:revision>
  <dc:subject/>
  <dc:title>Slide 1</dc:title>
</cp:coreProperties>
</file>