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F51-4FD3-4891-BD2A-AD9BC8E6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B0B-510A-4F3B-B15B-C497EC4F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C9A-4CA0-4A11-A403-9A2C2007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540-53D9-4FD1-8160-3BDE45B2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288-52F4-4E65-80A5-D13B6DEB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465-99C6-4AD4-9D0B-A2ABC7DE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0A4-4E25-4E37-A716-884D9AE1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51F-E399-499B-A52C-87FA517B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323-ED17-480A-B244-03801C2D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90D-289E-4515-A3B7-A332E02B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FA5-3B33-4BE7-80CC-73BA31D6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2AA-0877-41BE-BA80-BC13FA1D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BCD0-0794-4261-9545-E10A7C83B9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49D2-AAEE-4650-93E4-4327CC38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and Evaluating S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A07 3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2FB-2DBB-40F5-A9E4-2B9FCE8DDED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59A0C-9F09-4A20-B547-109990880C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r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: Users tend to use the vocabulary and syntax the system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rain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ark &amp; Brennan ’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of system prompt vocabulary/synta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ease tell me where you would like to leave/depart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ould like to leave/depart from Bost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KTH data collections i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794-F478-4E03-B475-347DD942E5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474B2-6C14-4FB2-B194-336478CCB3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1720" y="599760"/>
            <a:ext cx="862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User Responses to Vaxhol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57400" y="1405080"/>
            <a:ext cx="683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6524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swers to the ques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weekday do you want to go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Vilken veckodag vill du </a:t>
            </a:r>
            <a:r>
              <a:rPr b="0" lang="en-GB" sz="24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300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fre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want to go on 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jag vill </a:t>
            </a:r>
            <a:r>
              <a:rPr b="0" lang="en-GB" sz="20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å fre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%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want to go to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jag vill </a:t>
            </a:r>
            <a:r>
              <a:rPr b="0" lang="en-GB" sz="20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å fre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want to go a Fri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jag vill </a:t>
            </a:r>
            <a:r>
              <a:rPr b="0" lang="en-GB" sz="2000" spc="-1" strike="noStrike">
                <a:solidFill>
                  <a:srgbClr val="c94e35"/>
                </a:solidFill>
                <a:latin typeface="Arial"/>
              </a:rPr>
              <a:t>å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fredag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e there any hotels in Vaxholm?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inns det några hotell i Vaxhol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80C-8875-435B-932C-FAB088133CF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71691-E898-4589-8B63-A00C040FA42A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5257800"/>
            <a:ext cx="1185840" cy="11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680" y="1860480"/>
            <a:ext cx="380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Hur ofta 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u utomlands på semester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2263680"/>
            <a:ext cx="439272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en gång om året kansk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ganska sällan utomlands på sem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nästan alltid utomlands under min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ngefär 2 gånger per år utomlands på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nästan varje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n varje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ungefär en gång om å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är nästan aldrig utomland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eller två gånger om år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gång per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kanske en gång per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gefär en gång per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åtminståne en gång om år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ästan aldrig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82360" y="1860480"/>
            <a:ext cx="386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Hur ofta 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u utomlands på semester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02280" y="2254320"/>
            <a:ext cx="4941720" cy="34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en gång om året utomland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inte ofta utomlands på semester det blir mera i arbet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n vartannat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en gång per semest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e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 ungefär en gång per å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ag brukar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resa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 på semestern åtminståne en gång i året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gång per år kansk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gång vart annat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arje å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art tredje år ungefär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u för tiden inte så ofta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arje år brukar jag </a:t>
            </a:r>
            <a:r>
              <a:rPr b="1" lang="en-US" sz="1200" spc="-1" strike="noStrike">
                <a:solidFill>
                  <a:srgbClr val="ff3300"/>
                </a:solidFill>
                <a:latin typeface="Arial Black"/>
              </a:rPr>
              <a:t>åka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utomland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6320" y="554040"/>
            <a:ext cx="8437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 Priming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often do you go abroad on hol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FF0-3D58-4C55-BC8A-F45F8F62F2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D8C0D-1713-4FB1-8D06-1D93F4B96B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00400" y="5367240"/>
            <a:ext cx="3784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1080" y="2448000"/>
            <a:ext cx="3834360" cy="383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25" y="101"/>
                </a:moveTo>
                <a:arcTo wR="10800" hR="10800" stAng="-5870907" swAng="1368992"/>
                <a:lnTo>
                  <a:pt x="10800" y="10800"/>
                </a:lnTo>
                <a:close/>
              </a:path>
              <a:path fill="none" w="21600" h="21600">
                <a:moveTo>
                  <a:pt x="9325" y="101"/>
                </a:moveTo>
                <a:arcTo wR="10800" hR="10800" stAng="-5870907" swAng="1368992"/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13080" y="2456280"/>
            <a:ext cx="3835080" cy="383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9" y="366"/>
                </a:moveTo>
                <a:arcTo wR="10800" hR="10800" stAng="-4501915" swAng="11110628"/>
                <a:lnTo>
                  <a:pt x="10800" y="10800"/>
                </a:lnTo>
                <a:close/>
              </a:path>
              <a:path fill="none" w="21600" h="21600">
                <a:moveTo>
                  <a:pt x="13589" y="366"/>
                </a:moveTo>
                <a:arcTo wR="10800" hR="10800" stAng="-4501915" swAng="11110628"/>
              </a:path>
            </a:pathLst>
          </a:custGeom>
          <a:solidFill>
            <a:srgbClr val="fdd7a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15600" y="2455920"/>
            <a:ext cx="3836520" cy="383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0" y="20935"/>
                </a:moveTo>
                <a:arcTo wR="10800" hR="10800" stAng="6612367" swAng="3894254"/>
                <a:lnTo>
                  <a:pt x="10800" y="10800"/>
                </a:lnTo>
                <a:close/>
              </a:path>
              <a:path fill="none" w="21600" h="21600">
                <a:moveTo>
                  <a:pt x="7070" y="20935"/>
                </a:moveTo>
                <a:arcTo wR="10800" hR="10800" stAng="6612367" swAng="3894254"/>
              </a:path>
            </a:pathLst>
          </a:custGeom>
          <a:solidFill>
            <a:srgbClr val="fbb35b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16320" y="2455920"/>
            <a:ext cx="3835080" cy="383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" y="11721"/>
                </a:moveTo>
                <a:arcTo wR="10800" hR="10800" stAng="10506621" swAng="5268348"/>
                <a:lnTo>
                  <a:pt x="10800" y="10800"/>
                </a:lnTo>
                <a:close/>
              </a:path>
              <a:path fill="none" w="21600" h="21600">
                <a:moveTo>
                  <a:pt x="39" y="11721"/>
                </a:moveTo>
                <a:arcTo wR="10800" hR="10800" stAng="10506621" swAng="5268348"/>
              </a:path>
            </a:pathLst>
          </a:custGeom>
          <a:solidFill>
            <a:srgbClr val="ac6004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13800" y="2459520"/>
            <a:ext cx="3833640" cy="383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10" y="106"/>
                </a:moveTo>
                <a:arcTo wR="10800" hR="10800" stAng="-4917824" swAng="451098"/>
                <a:lnTo>
                  <a:pt x="10800" y="10800"/>
                </a:lnTo>
                <a:close/>
              </a:path>
              <a:path fill="none" w="21600" h="21600">
                <a:moveTo>
                  <a:pt x="12310" y="106"/>
                </a:moveTo>
                <a:arcTo wR="10800" hR="10800" stAng="-4917824" swAng="451098"/>
              </a:path>
            </a:pathLst>
          </a:custGeom>
          <a:solidFill>
            <a:srgbClr val="800080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18240" y="1598760"/>
            <a:ext cx="79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83040" y="2095560"/>
            <a:ext cx="50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70480" y="4124160"/>
            <a:ext cx="8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6480" y="443232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7320" y="5689440"/>
            <a:ext cx="87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84760" y="535140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29480" y="2527200"/>
            <a:ext cx="77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45680" y="280980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89520" y="1755720"/>
            <a:ext cx="968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92520" y="2170080"/>
            <a:ext cx="50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66E-BEB9-45FC-ADC4-23D3734B839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A2F9F-8A72-419E-B5C6-C4F40F144B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  Training and S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licit training ‘better’ than explic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easier to train the user than to retrain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6EA-E73D-4F04-A466-29EFFF4A731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526B8-AB3F-41C1-B4FC-97CE80134A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Dialogu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DISE framework (Walker et al ’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of a dialogue system is affected both by </a:t>
            </a:r>
            <a:r>
              <a:rPr b="0" i="1" lang="en-US" sz="2800" spc="-1" strike="noStrike">
                <a:solidFill>
                  <a:srgbClr val="990099"/>
                </a:solidFill>
                <a:latin typeface="Arial"/>
              </a:rPr>
              <a:t>what</a:t>
            </a: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accomplished by the user and the dialogue agent and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how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ets accomp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3760" y="3962520"/>
            <a:ext cx="27396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Task Success</a:t>
            </a: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65360" y="3962520"/>
            <a:ext cx="20307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4960" y="5257800"/>
            <a:ext cx="20354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12320" y="5257800"/>
            <a:ext cx="23371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omic Sans MS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9720" y="50292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502920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872-1FDA-4328-9FDD-E32A90C145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B48D8-E4F1-435C-B357-6D201ECDAE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0600" y="3124080"/>
            <a:ext cx="641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ttribut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election Criter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Kim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10:30 a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2D5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73392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352680"/>
            <a:ext cx="655308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33526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93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oa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en as Attribute-Valu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LVIS e-mail retrieval task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(Walker et al ‘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Find the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time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place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 of your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meeting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 with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Kim</a:t>
            </a:r>
            <a:r>
              <a:rPr b="1" i="1" lang="en-US" sz="2800" spc="-1" strike="noStrike">
                <a:solidFill>
                  <a:srgbClr val="009999"/>
                </a:solidFill>
                <a:latin typeface="Comic Sans MS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8240" y="5105520"/>
            <a:ext cx="900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u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fined by match between AVM values at end of  with “true” values for A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51F-BB60-4A04-A396-A5088E4AA8E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447A9-F83B-48C4-88BF-5E71C4C48D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9600" y="1527120"/>
            <a:ext cx="763740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Interaction:User Turns, System Turns, Elaps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Qua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Interaction: ASR rejections, Time Out Prompts, Help Requests, Barge-Ins, Mean Recognition Score (concept accuracy), Cancell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rceived completion, information ext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D19-37BB-4BC3-8F4F-60A30D1129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2759F-CD07-4F02-8F63-BB8011AE19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 given specifi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ken dialogues reco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factors, states, dialog acts automatically logged; ASR accuracy,barge-in hand-labe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specify task solution via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omplet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ser Satisfactio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ultiple linear reg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odel User Satisfaction as a function of Task Success and Costs; test for significant predictiv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A6B-7F6A-45C8-97FD-FF2238EA10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7D91A-3259-49B6-BEA9-9F05EC099F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User </a:t>
            </a: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Sum of Many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172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Annie  easy to understand in this conversation? 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TS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versation, did  Annie  understand what you said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SR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versation, was it easy to find the message you wanted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ask 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 pace of interaction with Annie appropriate in this conversation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eraction 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versation, did you know what you could say at each point of the dialog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294920"/>
            <a:ext cx="404172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User Expert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often was Annie sluggish and slow to reply to you in this conversation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ystem Respo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Annie work the way you expected her  to in this conversation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xpected 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your current experience with using Annie to get your email, do you think you'd  use Annie regularly to access your mail when you are away from your desk?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uture 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1B7-1183-44C3-8C65-428364B0AC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9E1E7-DF84-41AE-A542-981721586D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Language Understanding (NLU) in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A7F-891A-412D-99E4-47A859B713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F4C73-348B-4635-8745-8E178BB993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Functions from Thre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VIS User Sat.= .21* COMP + .47 * MRS - .15 * 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T User Sat.= .35* COMP + .45* MRS - .14*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IE User Sat.= .33*COMP + .25* MRS +.33*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: User perception of  task completion (task su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: Mean recognition accuracy  (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:  Elapsed time (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: Help requests (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49D-B41E-4F26-951B-03CF5733AF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E9ABC-9A63-498E-B4BE-F08502BB01AE}" type="datetime1">
              <a:rPr lang="en-US"/>
              <a:t>07/31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c6600"/>
                </a:solidFill>
                <a:latin typeface="Arial"/>
              </a:rPr>
              <a:t>Performance Mod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ceived task comple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an recognition sc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sistently significant predictors of Us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odel useful for system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tions about system mod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ing ‘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dialogues from ‘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di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we also tell on-line when a dialogue is ‘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ing wr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785-4ECC-4DE0-8D87-EB92639FD2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6A49B-AD35-45DC-88D8-D664156AF2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&amp;M 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rafsky et al ’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set &amp; Lamel ‘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9CD-E9DE-4055-8388-017DAC146F6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FB611-86D5-4227-B11F-C85751BC0E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LU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meanings do we want to cap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ies, actions, events, tim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n airline travel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ights, airlines,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ok up, reserve,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rs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rst, next, la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: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partures, arr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s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es,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represent these in our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n SDS need from a meaning re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136-4678-4D13-BBE9-0F8C7B67A5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080DE-EB4D-412B-A163-706921286B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en does the first flight from Boston to Philadelphia leave on July 7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s there a flight from Boston to Philadelph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i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s there a connecting flight to Denver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801-E2FF-4C45-A342-47395F4575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41B93-EFD2-4CD0-AC75-5F2818DBE2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DS use Semantic Gram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obust par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ormation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grammars specifically in terms of the semantic information we want to ex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specific rules correspond to items in th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ant to go from Boston to Baltimore on Thursday, September 24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Requ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eeting Need-specification travel-verb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ty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ty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-specific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I want|I ne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0E2-23A9-4596-9605-E5546F6975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EDF66-3ED6-4768-9857-3CD4D4C618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elements can be mapped directly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lo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emantic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2649600"/>
          <a:ext cx="6019560" cy="155880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  <a:gridCol w="150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-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-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lti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/24/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D62-71E9-4785-93B7-AACD6A9039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76E80-6773-4FFC-AC6F-B6C85AD7C9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 of Semantic Gram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gene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one for each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ostly in developmen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ery large, depending on how much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want them 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sers go outside grammar, things may break disastr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want to leave from my house at 10 a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want to talk to a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3B0-1F05-42B6-9814-7664BF0D1E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59651-ADBC-4655-96CB-BFDBCF6166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HM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sequential model on labeled corpora to identify semantic slots from user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eed spe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o g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ravel ver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to Bost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o-cit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on Thursd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Da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es on training corpus to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y sequences of semantic s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y words associated with those s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fill slots in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o directly generate a response while processing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8CE-6E96-49C8-9F18-DC854A4FD0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14C3C-977A-4281-A721-BF5333DA5F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User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y heavily on knowledge of task and constraints on user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fairly sophisticated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ant to go to Boston next Thurs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want to leave from there on Friday for Balti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Requ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-spec travel-verb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t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logue postul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imp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course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e reference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ior probabilities based on training corpus to resolve ambiguities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ston Baltimore on July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1F5-5D94-4C5A-8F5B-C18E3DE870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68FC5-1489-4954-AA8B-5776F7483C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7:52:10Z</dcterms:created>
  <dc:creator>Julia Hirschberg</dc:creator>
  <dc:description/>
  <dc:language>en-US</dc:language>
  <cp:lastModifiedBy>Julia Hirschberg</cp:lastModifiedBy>
  <cp:lastPrinted>1999-05-22T22:06:30Z</cp:lastPrinted>
  <dcterms:modified xsi:type="dcterms:W3CDTF">2007-07-08T23:11:46Z</dcterms:modified>
  <cp:revision>471</cp:revision>
  <dc:subject/>
  <dc:title>No Slide Title</dc:title>
</cp:coreProperties>
</file>