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80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7320" y="685800"/>
            <a:ext cx="4567320" cy="342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764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80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219C4F-F6A0-4B94-8FBA-AE5DD7979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764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udix tree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764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w pause worked better than norma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aker id/change hand marked appar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0 reset measured before and after potential boundary, range is defined over preceding word and compared to speaker-specific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4267080"/>
            <a:ext cx="5022720" cy="4191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N sentence boundaries vs 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990720" y="4648320"/>
            <a:ext cx="2438280" cy="1430280"/>
            <a:chOff x="990720" y="4648320"/>
            <a:chExt cx="2438280" cy="1430280"/>
          </a:xfrm>
        </p:grpSpPr>
        <p:sp>
          <p:nvSpPr>
            <p:cNvPr id="102" name=""/>
            <p:cNvSpPr/>
            <p:nvPr/>
          </p:nvSpPr>
          <p:spPr>
            <a:xfrm>
              <a:off x="2887560" y="4648320"/>
              <a:ext cx="5414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S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28680" y="4648320"/>
              <a:ext cx="7588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a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90720" y="4648320"/>
              <a:ext cx="11379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87560" y="5797440"/>
              <a:ext cx="54144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28680" y="5797440"/>
              <a:ext cx="75888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90720" y="5797440"/>
              <a:ext cx="11379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ance(non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87560" y="5514840"/>
              <a:ext cx="5414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1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28680" y="5514840"/>
              <a:ext cx="7588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90720" y="5514840"/>
              <a:ext cx="113796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b H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87560" y="5234040"/>
              <a:ext cx="54144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1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28680" y="5234040"/>
              <a:ext cx="75888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90720" y="5234040"/>
              <a:ext cx="113796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M on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87560" y="4951440"/>
              <a:ext cx="5414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28680" y="4951440"/>
              <a:ext cx="7588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90720" y="4951440"/>
              <a:ext cx="113796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s on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90720" y="4648320"/>
              <a:ext cx="24382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0720" y="523404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90720" y="551484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90720" y="579744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90720" y="6078600"/>
              <a:ext cx="24382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90720" y="4648320"/>
              <a:ext cx="0" cy="1430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28680" y="4648320"/>
              <a:ext cx="0" cy="143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87560" y="4648320"/>
              <a:ext cx="0" cy="143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29000" y="4648320"/>
              <a:ext cx="0" cy="1430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90720" y="495144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733920" y="4724280"/>
            <a:ext cx="289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809880" y="4648320"/>
            <a:ext cx="2438280" cy="1430280"/>
            <a:chOff x="3809880" y="4648320"/>
            <a:chExt cx="2438280" cy="1430280"/>
          </a:xfrm>
        </p:grpSpPr>
        <p:sp>
          <p:nvSpPr>
            <p:cNvPr id="129" name=""/>
            <p:cNvSpPr/>
            <p:nvPr/>
          </p:nvSpPr>
          <p:spPr>
            <a:xfrm>
              <a:off x="5706720" y="4648320"/>
              <a:ext cx="5414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S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47840" y="4648320"/>
              <a:ext cx="7588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a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9880" y="4648320"/>
              <a:ext cx="11379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06720" y="5797440"/>
              <a:ext cx="54144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5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47840" y="5797440"/>
              <a:ext cx="75888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5797440"/>
              <a:ext cx="11379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ance(non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06720" y="5514840"/>
              <a:ext cx="5414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2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947840" y="5514840"/>
              <a:ext cx="7588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5514840"/>
              <a:ext cx="113796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b H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06720" y="5234040"/>
              <a:ext cx="54144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2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47840" y="5234040"/>
              <a:ext cx="75888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09880" y="5234040"/>
              <a:ext cx="113796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M on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06720" y="4951440"/>
              <a:ext cx="5414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47840" y="4951440"/>
              <a:ext cx="7588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9880" y="4951440"/>
              <a:ext cx="113796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s on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9880" y="4648320"/>
              <a:ext cx="24382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9880" y="523404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09880" y="551484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9880" y="579744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09880" y="6078600"/>
              <a:ext cx="24382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09880" y="4648320"/>
              <a:ext cx="0" cy="1430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47840" y="4648320"/>
              <a:ext cx="0" cy="143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06720" y="4648320"/>
              <a:ext cx="0" cy="143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48160" y="4648320"/>
              <a:ext cx="0" cy="1430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09880" y="495144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990720" y="65530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990720" y="6858000"/>
            <a:ext cx="2438280" cy="1430280"/>
            <a:chOff x="990720" y="6858000"/>
            <a:chExt cx="2438280" cy="1430280"/>
          </a:xfrm>
        </p:grpSpPr>
        <p:sp>
          <p:nvSpPr>
            <p:cNvPr id="156" name=""/>
            <p:cNvSpPr/>
            <p:nvPr/>
          </p:nvSpPr>
          <p:spPr>
            <a:xfrm>
              <a:off x="2887560" y="6858000"/>
              <a:ext cx="5414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S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28680" y="6858000"/>
              <a:ext cx="7588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a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90720" y="6858000"/>
              <a:ext cx="11379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87560" y="8007120"/>
              <a:ext cx="54144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28680" y="8007120"/>
              <a:ext cx="75888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90720" y="8007120"/>
              <a:ext cx="11379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ance(non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87560" y="7724520"/>
              <a:ext cx="5414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143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28680" y="7724520"/>
              <a:ext cx="7588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137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90720" y="7724520"/>
              <a:ext cx="113796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b H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87560" y="7443720"/>
              <a:ext cx="54144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189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28680" y="7443720"/>
              <a:ext cx="75888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189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90720" y="7443720"/>
              <a:ext cx="113796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M on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87560" y="7161120"/>
              <a:ext cx="5414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173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28680" y="7161120"/>
              <a:ext cx="7588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165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90720" y="7161120"/>
              <a:ext cx="113796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s on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90720" y="6858000"/>
              <a:ext cx="24382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90720" y="744372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90720" y="772452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90720" y="800712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90720" y="8288280"/>
              <a:ext cx="24382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90720" y="6858000"/>
              <a:ext cx="0" cy="1430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128680" y="6858000"/>
              <a:ext cx="0" cy="143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87560" y="6858000"/>
              <a:ext cx="0" cy="143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29000" y="6858000"/>
              <a:ext cx="0" cy="1430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716112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962520" y="685800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86200" y="6781680"/>
            <a:ext cx="2438280" cy="1430280"/>
            <a:chOff x="3886200" y="6781680"/>
            <a:chExt cx="2438280" cy="1430280"/>
          </a:xfrm>
        </p:grpSpPr>
        <p:sp>
          <p:nvSpPr>
            <p:cNvPr id="183" name=""/>
            <p:cNvSpPr/>
            <p:nvPr/>
          </p:nvSpPr>
          <p:spPr>
            <a:xfrm>
              <a:off x="5783040" y="6781680"/>
              <a:ext cx="5414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S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24160" y="6781680"/>
              <a:ext cx="7588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a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86200" y="6781680"/>
              <a:ext cx="11379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83040" y="7930800"/>
              <a:ext cx="54144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4160" y="7930800"/>
              <a:ext cx="75888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86200" y="7930800"/>
              <a:ext cx="11379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ance(non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83040" y="7648200"/>
              <a:ext cx="5414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1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24160" y="7648200"/>
              <a:ext cx="7588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6200" y="7648200"/>
              <a:ext cx="113796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b H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83040" y="7367400"/>
              <a:ext cx="54144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1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24160" y="7367400"/>
              <a:ext cx="75888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86200" y="7367400"/>
              <a:ext cx="113796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M on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83040" y="7084800"/>
              <a:ext cx="5414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24160" y="7084800"/>
              <a:ext cx="7588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86200" y="7084800"/>
              <a:ext cx="113796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s on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86200" y="6781680"/>
              <a:ext cx="24382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86200" y="736740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86200" y="764820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86200" y="793080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86200" y="8211960"/>
              <a:ext cx="24382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86200" y="6781680"/>
              <a:ext cx="0" cy="1430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24160" y="6781680"/>
              <a:ext cx="0" cy="143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83040" y="6781680"/>
              <a:ext cx="0" cy="143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24480" y="6781680"/>
              <a:ext cx="0" cy="1430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86200" y="708480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914400" y="62485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N topic vs S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B7EF-3B6B-45CB-9193-AD61FF6D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D511-AF80-44E5-B474-3C9F1787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A898-B9DE-4D5B-B593-6E1D2F854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9867-6D28-4B2C-B8E8-CD9C6960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5F91-6B69-4A19-BB3B-CFF97035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1083-76AC-4A46-811E-11CD63A9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BC2B-4762-4D2A-8521-6AD99FF8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AF98-EA22-457F-B05F-F07422D4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5CB8-46A7-4A28-8AF1-4DFE3683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66CD-1856-489A-AF17-C7880847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073A-28D5-4755-AF24-24C48E1A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89AA-D362-4858-B8AC-BB85999C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84B7-F527-4562-B1DB-2301A93E3C8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9036-B1F9-43E8-8521-F8232E865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gnizing Structure:  Sentence, Speaker, andTopic Se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ia Hirsch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 47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BBE6-2E6E-406F-99A3-D65DDBBBEB4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9AB8A-EF8C-415C-A678-AB732C6962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iling Algorithm (Hearst ’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Plot algorithms (Reynar ’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er (Kan et al ’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 ’00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ine similarity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: 1; no overlap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676520" y="3809880"/>
                <a:ext cx="4038480" cy="12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×</m:t>
                            </m:r>
                            <m:r>
                              <m:t xml:space="preserve">f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×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y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j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nary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4006-72EB-468A-9C2F-8027A06E95D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F970FC-3CE4-4565-846D-101DE774BB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ity matri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nk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 effect of out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ikely is this sentence to be a boundary, compared to other sentenc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sive clustering based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sum of rank values 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f segment n/ inside area of segment n (j-i+1) – for i,j the sentences at the beginning and end of segment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dividing the corp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i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(n-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hows littl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’s algorithm has best performance (9-12% err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BC95-A9A6-44A3-9638-DD5A8527ECB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64DB04-6434-4726-BF0D-64AAAD1B2D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yama &amp; Isahara ’02: What if we have no labeled data for our dom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3122-CCE7-45F3-B7B8-A3761591318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0DCAFC-EBB7-42CC-BC4E-47E2A1968C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structural information in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from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from text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Types of structu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 in spoken corp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8666-C41F-47BA-997B-DABE8307E91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B0882-C368-4A0A-AD24-8D7FA17DB0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Discourse Structure in Spoken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ence/utterance bound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ker turn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ic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cast n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phone conver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57B1-26A1-4116-A73B-331591D7641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0F0D78-234A-4724-A2FC-786E70E07A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structural information in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from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from text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structu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Segmentation in spoken corp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32ED-3F67-43C7-A95D-DA55F2C456D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5DDEE-91A7-4CC0-AB60-A67578867E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ken Cues to Discourse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tch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histe ’75, Brown et al ’83, Silverman ’86, Avesani &amp; Vayra ’88, Ayers ’92, Swerts et al ’92, Grosz &amp; Hirschberg’92, Swerts &amp; Ostendorf ’95, Hirschberg &amp; Nakatani ‘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eding p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histe ’79, Chafe ’80, Brown et al ’83, Silverman ’86, Woodbury ’87, Avesani &amp; Vayra ’88, Grosz &amp; Hirschberg’92, Passoneau &amp; Litman ’93, Hirschberg &amp; Nakatani ‘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0A88-C138-414A-A2D3-B206F88BBA2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D1283-6137-4ED1-926F-2327E5DE53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terworth ’75, Lehiste ’80, Grosz &amp; Hirschberg’92, Hirschberg &amp; Nakatani ‘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wn et al ’83, Grosz &amp; Hirschberg’92, Hirschberg &amp; Nakatani ‘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wn et al ’83, Woodbury ’87, Swerts et al ‘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71B8-C9B4-4A2E-AEC2-135E1986A7B7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4FC3E-F696-4FB8-BB7B-511722CD78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Sentence and Topic Bound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al, Machine Learning approaches with large segmented corp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xical c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e to ASR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oustic/prosodic c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e to speaker 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5B9D-362C-4BCD-A4AD-4C2FE9F6AC7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9180D8-7CB6-4046-8688-74FBAB3687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riberg et al ’00: Prosodic C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ody cues perform as well or better than text-based cues at sentence and topic segmentation -- and generalize bett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: identify sentence and topic boundaries at ASR-defined word bounda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T decision trees provided boundary pre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 combined these with lexical boundary predictions from 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75A6-D4F1-4ABF-800E-AC5B3FFBE1E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7DAA72-5C0C-4479-B9AA-FAC8151F8D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structural information in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from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from text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structu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 in spoken corp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7B69-A087-4390-A509-E0EE225EFCB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8489B-FF6C-4757-87C9-AFD663076D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otential boundary lo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use at boundary (raw and normalized by spea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use at word before boundary (is this a new ‘turn’ or part of continuous speech segment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 and rhyme duration (normalized by inherent duration) (phrase-final lengthen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0 (smoothed and stylized): reset, range (topline, baseline), slope and 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CEDE-D645-440A-97D4-01869356BE8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95AED-3B74-4B5D-A8FD-56E203B541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ce quality (halving/doubling estimates as correlates of creak or glottal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aker change, time from start of turn, # turns in conversation and g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/tested on Switchboard and Broadcast N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89D8-0585-4EFE-9C09-6ED2258C8B7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34B7F-9FD8-4346-BE46-08439A89D6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tence segmentation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od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than LM for B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e (on transcription) and same for ASR transcript on 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better than ch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eatures for B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use at boundary ,turn/no turn, f0 diff across boundary, rhyme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eatures for S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/rhyme duration before boundary, pause at boundary, turn/no turn, pause at preceding word boundary, time in 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9F78-6553-4E6D-9E9C-6E6D49D481F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66A285-76D5-4237-97BE-73D1DDBBF4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 segmentation results (BN only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use at boundary, f0 range, turn/no turn, gender, time in 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ody alone better than 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d model improves significa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A6DA-A45E-4721-B776-15AB6593459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D631D3-19F3-47D7-A10D-CF20DA0E36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ing Speech 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hapter of J&amp;M is a beta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keep a diary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ty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passages you think are hard to fo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sugg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W 3a due by class (2:40p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528F-A835-4136-81AF-98D1A3168B1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961654-07BE-4A4A-BAE5-49FD15D958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structural information in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Learning from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from text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structu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 in spoken corp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4F41-0CCD-4C85-9B6F-AF437B450FB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4A2D0-4AE6-4116-BE32-E5248A4999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 Discourse Structure for Speech 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etical accounts (e.g. Grosz &amp; Sidner ’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irical stud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vs.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they help in recogni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 to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oustic/prosodic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al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F148-B3EB-42F6-A09C-52C46A68D9B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41363-A3AB-4F12-B1BC-A0E7D8859A7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structural information in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from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Learning from text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structu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 in spoken corp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3D35-C5C1-461A-B403-B0BB38D9233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579BE-78BF-45D0-8B63-23FDE49DBB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ors of Structure 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e phrases: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ow, well,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nominal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thography and formatting -- in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xical information (Hearst ‘94, Reynar ’98, Beeferman et al ‘99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7049-274E-4D14-8783-36998726F27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CFD14F-B3FB-4293-B271-4E23E7D8AB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s of Text Se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xical cohesion methods vs. multipl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bulary similarity indicates topic cohe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uition from Halliday &amp; Hasan ’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m re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ity re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xt 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ntic simi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ding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5C64-37A2-4E08-94AE-EA363CEED43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C9C3D5-E43A-468B-8682-B77AE30F619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xical ch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lexical cohesion with other c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e phr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(e.g. pronou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actic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hine Learning from labeled corp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8932-2D70-49BD-A6F5-235BC0023D8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341B01-392D-4580-BF80-DA6101F14A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 2000:  Text Se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s leading methods and compares new algorithm to them on corpus of 700 concatenated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 algorith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l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par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# of random part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 # of random part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7366-2F74-447A-AD83-2BE0E8153A4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FC47E5-9E5A-4F14-80AE-A195D25296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17T17:52:10Z</dcterms:created>
  <dc:creator>Julia Hirschberg</dc:creator>
  <dc:description/>
  <dc:language>en-US</dc:language>
  <cp:lastModifiedBy>Julia Hirschberg</cp:lastModifiedBy>
  <cp:lastPrinted>2003-04-02T14:27:17Z</cp:lastPrinted>
  <dcterms:modified xsi:type="dcterms:W3CDTF">2005-03-23T13:36:11Z</dcterms:modified>
  <cp:revision>521</cp:revision>
  <dc:subject/>
  <dc:title>No Slide Title</dc:title>
</cp:coreProperties>
</file>