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681-C0D2-44B8-9CAF-A2CF61B8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DBB-51C6-43EE-864A-613CC621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4B3-592F-45D5-9BE3-D959E87A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A00-D0F6-481E-92EE-72844C7B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BF6-74FF-4074-8EC5-A57C43A6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34D-C12C-4713-86E7-99855B32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7B3-B8DA-433A-9A3D-D039B24F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9F9-4CFC-45CC-B7A7-9C163B81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EB5-A1C5-45F2-A13C-E8800CB3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1B2-941F-44FA-B6E5-5D666DC2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46C-D510-4586-ADE1-88910BA9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682-A9B0-45C1-AF90-E18E59ED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6928-34C1-4B47-AFB9-C31352B77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-ToB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nnifer J. Vend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by James Ris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%L and %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 at the beginning of utterance or post-pausal medial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wL used when phrase begins with an accented mora or a long syl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536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0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5016600" cy="5668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5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biguous H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00200"/>
            <a:ext cx="399096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68840" y="1600200"/>
            <a:ext cx="399744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8769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6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22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L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278240" y="1295280"/>
            <a:ext cx="4451400" cy="502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288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50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nt Uncertainty (*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281480" y="1295280"/>
            <a:ext cx="4425840" cy="502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60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 degrees of break 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very small disj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consecutiv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 medium disj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 strong disjuncture between adjacent words or between a word and si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 mi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 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  disfl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 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s on break ind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 related phenomena: final F0 lowering, segmental lengthening, creaky voice, amplitude lowering, long pauses, stylized “finality” cont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00536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29040" y="1600200"/>
            <a:ext cx="3981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1055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41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56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ese To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use with Tokyo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t with design principles of English To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accent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on location of tones, and phrase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ve tiers: tones, words, break indices, finality, miscell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086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*+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03856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1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*+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ese has lexical ac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 word is accented, place H*+L on the accented syl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accent is early or late, place &gt; on the early accent or &lt; on the late accent, and mark H*+L where it should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0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te Ac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94040" y="609480"/>
            <a:ext cx="487224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7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rasal H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6384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0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undary 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L% and wL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%L and %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L% and wL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 at end of accentual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L% used when following phrase (without pause) is initially accented or begins with a long syll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L% indicates that the L% was not able to be fully realized and is unders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7:17:56Z</dcterms:created>
  <dc:creator>Jimmy</dc:creator>
  <dc:description/>
  <dc:language>en-US</dc:language>
  <cp:lastModifiedBy>Jimmy</cp:lastModifiedBy>
  <dcterms:modified xsi:type="dcterms:W3CDTF">2005-03-31T01:56:16Z</dcterms:modified>
  <cp:revision>10</cp:revision>
  <dc:subject/>
  <dc:title>J-ToBi</dc:title>
</cp:coreProperties>
</file>