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3E5F-700C-4B76-84C3-3E2522DB11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E38B-9DE9-41A8-9E06-88BCB2FCF7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7680" y="69048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ling card companies: pre and post-paid using VoIP gateways or buying minutes from other VoIP wholesa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iP ops: retail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lcos: mainly international/ LD ops using gateways on selective routes for point to point 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007-82AF-491D-A49A-3E5C8A15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2A9-D986-4E27-93DF-8417A8CA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0F7-F93F-4BE8-8066-38594ABB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7C1-6D5A-48B2-89C5-15C86C27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FC0F-F123-464B-8A14-8234F531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123-FFEA-4C4E-8CAB-5B72915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C230-0D58-4413-A27C-F7A535E1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3AC3-C8A5-4417-9569-BC00B98D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EC6C-65F4-4773-8AFC-1354137E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2709-5A5F-4BB9-A0C8-AA70AF0D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F357-6C90-4058-A098-8A58F36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B3C-91E7-4AE1-BD8C-847ADD5D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4961-93DB-414B-8CCD-BCC1E81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D639-85D4-4360-B1B7-D04E16D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6EB1-5F68-4B23-8FCE-FD7E3F57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6D2B-3ABD-4924-8A28-AF5D8695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FEC4-350C-4CB1-8C78-B52FD1D9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766-3756-48CC-979E-522CDC5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8E8-12F2-4F49-AEE7-55F3F8B1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A35-E3FD-4893-A11D-F162F09A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265-9874-41A2-ABD8-28BBFA45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B04-65F5-43B1-9CD4-6347ACC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E99-7FEE-47DB-8B55-CE9ACC6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691-CD5A-4120-AF63-1AD1C4DA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876240"/>
            <a:ext cx="1784160" cy="2324160"/>
            <a:chOff x="414360" y="87624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97380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87948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87624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E0B3-AB25-433D-A72D-66F4F05634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3160" y="196920"/>
            <a:ext cx="0" cy="2851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09480" y="798120"/>
            <a:ext cx="605016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674280" y="675360"/>
            <a:ext cx="246960" cy="2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160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8091000" y="531252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9F33-DD30-4562-BA1E-9E7D4C8FEB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2590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Focus on New Servic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nry Sinnrei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ld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banner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3124080" cy="64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5638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oston, July 18, 2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09588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* The views expressed in this presentation may or may not represent the views of my compan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1523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l Ses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1165320"/>
            <a:ext cx="32954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e true Internet hos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oice of 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oice of serv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P applianc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mplementa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Com 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is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lumbia Univers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C WorldCom (1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diatrix 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rtel 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ingt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mens 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8" name="graphic_palmiiix" descr=""/>
          <p:cNvPicPr/>
          <p:nvPr/>
        </p:nvPicPr>
        <p:blipFill>
          <a:blip r:embed="rId1"/>
          <a:stretch/>
        </p:blipFill>
        <p:spPr>
          <a:xfrm>
            <a:off x="7620120" y="3048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Etherset" descr=""/>
          <p:cNvPicPr/>
          <p:nvPr/>
        </p:nvPicPr>
        <p:blipFill>
          <a:blip r:embed="rId2"/>
          <a:stretch/>
        </p:blipFill>
        <p:spPr>
          <a:xfrm>
            <a:off x="3048120" y="4379760"/>
            <a:ext cx="3200400" cy="2097360"/>
          </a:xfrm>
          <a:prstGeom prst="rect">
            <a:avLst/>
          </a:prstGeom>
          <a:ln w="0">
            <a:noFill/>
          </a:ln>
        </p:spPr>
      </p:pic>
      <p:pic>
        <p:nvPicPr>
          <p:cNvPr id="340" name="apa_data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2666880" cy="1431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P SIP Phones and Adaptor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2SIPphones" descr=""/>
          <p:cNvPicPr/>
          <p:nvPr/>
        </p:nvPicPr>
        <p:blipFill>
          <a:blip r:embed="rId4"/>
          <a:stretch/>
        </p:blipFill>
        <p:spPr>
          <a:xfrm>
            <a:off x="3981600" y="2590920"/>
            <a:ext cx="3760560" cy="2009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791320" y="914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593800" y="2778120"/>
            <a:ext cx="3956040" cy="1295280"/>
            <a:chOff x="2593800" y="2778120"/>
            <a:chExt cx="3956040" cy="1295280"/>
          </a:xfrm>
        </p:grpSpPr>
        <p:sp>
          <p:nvSpPr>
            <p:cNvPr id="346" name=""/>
            <p:cNvSpPr/>
            <p:nvPr/>
          </p:nvSpPr>
          <p:spPr>
            <a:xfrm>
              <a:off x="2593800" y="2778120"/>
              <a:ext cx="3956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3800" y="2778120"/>
              <a:ext cx="3956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79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486400" y="21337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alog phone adap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3990960"/>
            <a:ext cx="990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l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3916440" y="914400"/>
            <a:ext cx="14176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6315120" y="4648320"/>
          <a:ext cx="1990800" cy="15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15120" y="4648320"/>
                    <a:ext cx="19908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5053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271-9106-4C6A-A139-B6D613D9C5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aying Goodbye to the Dumb Pho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90720" y="1447920"/>
            <a:ext cx="4017960" cy="3962160"/>
            <a:chOff x="1890720" y="1447920"/>
            <a:chExt cx="4017960" cy="3962160"/>
          </a:xfrm>
        </p:grpSpPr>
        <p:sp>
          <p:nvSpPr>
            <p:cNvPr id="358" name=""/>
            <p:cNvSpPr/>
            <p:nvPr/>
          </p:nvSpPr>
          <p:spPr>
            <a:xfrm>
              <a:off x="1890720" y="1447920"/>
              <a:ext cx="401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90720" y="1447920"/>
              <a:ext cx="401796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0" lang="en-US" sz="23000" spc="-1" strike="noStrike">
                  <a:solidFill>
                    <a:srgbClr val="40458c"/>
                  </a:solidFill>
                  <a:latin typeface="Tahoma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60" name="phone1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543800" cy="536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9480" y="533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ingTel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intelligen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phone connects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anywhe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n the Intern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D05-3414-45AC-9D1D-B1BF2C028E6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76200"/>
            <a:ext cx="777240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nternet Phones are no dumb terminal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lephony Switching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ll switches: PBX, CO, Softswitch, etc.  are the equivalent of mainframes with dumb termin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prietary, non-extensible, expensive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witches will stagnate the same way as mainframes do (exchange your laptop with a dumb terminal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stile environment to innov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00600" y="10663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itho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ue IP SIP phones have open access to the whole Inter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r choice of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y serv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y application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P/SDP/RTP/SMIL, mail, web, IM interoper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hone-PC-palmtop integr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w services via the Inter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ones not yet invented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8672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8040" y="5740560"/>
            <a:ext cx="570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Home network devices will not be controlled by the telecom “Residential Gateway/Call Agent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720-307D-4338-BC82-F7F58FA20C3F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P Communications for e-Commerc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1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hance web purchasing with interactive communic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oid abandoned shopping car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 cost of customer service cen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ibuted web customer relations management (CR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xt chat based on instant messaging with web page sha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ce chat using click and connect: Phone or PC (less desirabl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-Commerce requires QoS, Reliability, zero configu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rly implementations were unsatisfactory and propriet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INT: Click-to-Connect is IETF RFC 284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B90-8257-41F2-96E3-FBE1BF9463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Distributed Web Customer Relations Management (CRM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voice circuit switch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ACD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IVR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ed PC-SIP Phone operator pos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and connect conferen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ed mail routing and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novative customer sup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43000" y="5486400"/>
            <a:ext cx="6924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gger business potential than VoIP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029200" y="1981080"/>
            <a:ext cx="3276720" cy="762120"/>
            <a:chOff x="5029200" y="1981080"/>
            <a:chExt cx="3276720" cy="762120"/>
          </a:xfrm>
        </p:grpSpPr>
        <p:sp>
          <p:nvSpPr>
            <p:cNvPr id="373" name=""/>
            <p:cNvSpPr/>
            <p:nvPr/>
          </p:nvSpPr>
          <p:spPr>
            <a:xfrm>
              <a:off x="5029200" y="1981080"/>
              <a:ext cx="3276720" cy="76212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3680" y="2133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Use SIP, CPL, XM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B39-725D-4BD5-815B-8A9DD83F9D3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 rot="19933200">
            <a:off x="380880" y="2742840"/>
            <a:ext cx="827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w Revenue comes only from New Servic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378240" y="4965840"/>
            <a:ext cx="4673520" cy="965160"/>
            <a:chOff x="3378240" y="4965840"/>
            <a:chExt cx="4673520" cy="965160"/>
          </a:xfrm>
        </p:grpSpPr>
        <p:sp>
          <p:nvSpPr>
            <p:cNvPr id="378" name=""/>
            <p:cNvSpPr/>
            <p:nvPr/>
          </p:nvSpPr>
          <p:spPr>
            <a:xfrm>
              <a:off x="3378240" y="4965840"/>
              <a:ext cx="4673520" cy="96516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41600" y="5037120"/>
              <a:ext cx="454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on-profit applications like SIP for the hearing impaire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AD1-4763-4788-80BF-765A704E88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arly Misste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lieving cheaper VoIP is a busin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ISDN to H.323 to Internet vo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ing the PC as a ph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missteps?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FB2-199F-4076-B44F-E5DD581F77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8320" y="765000"/>
          <a:ext cx="685944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765000"/>
                    <a:ext cx="685944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Retail VoIP Market Share 1999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1760" y="1081080"/>
            <a:ext cx="6701760" cy="4575240"/>
            <a:chOff x="221760" y="1081080"/>
            <a:chExt cx="6701760" cy="4575240"/>
          </a:xfrm>
        </p:grpSpPr>
        <p:graphicFrame>
          <p:nvGraphicFramePr>
            <p:cNvPr id="223" name=""/>
            <p:cNvGraphicFramePr/>
            <p:nvPr/>
          </p:nvGraphicFramePr>
          <p:xfrm>
            <a:off x="434880" y="1339560"/>
            <a:ext cx="6135840" cy="424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880" y="1339560"/>
                      <a:ext cx="6135840" cy="42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3247920" y="1081080"/>
              <a:ext cx="1447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Net2Pho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9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51400" y="141912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iBas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0280" y="193032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Delta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2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67080" y="2465280"/>
              <a:ext cx="9655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ITX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33800" y="3893760"/>
              <a:ext cx="16588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CC Companies 47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01760" y="186660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Other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3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760" y="5257440"/>
              <a:ext cx="670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</a:rPr>
                <a:t>Worldwide Retail VOIP Revenue in 1999 = $444 Mill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60520" y="2651040"/>
              <a:ext cx="260280" cy="61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51000" y="2219040"/>
              <a:ext cx="235080" cy="172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65520" y="1860480"/>
              <a:ext cx="162000" cy="245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22200" y="1612800"/>
              <a:ext cx="49320" cy="1854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-291960" y="56260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erence: John Lilley/GartnerGroup/Dataquest – VON Europe 200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184880" y="3319560"/>
            <a:ext cx="1656000" cy="2724120"/>
            <a:chOff x="7184880" y="3319560"/>
            <a:chExt cx="1656000" cy="2724120"/>
          </a:xfrm>
        </p:grpSpPr>
        <p:pic>
          <p:nvPicPr>
            <p:cNvPr id="238" name="j0326228" descr=""/>
            <p:cNvPicPr/>
            <p:nvPr/>
          </p:nvPicPr>
          <p:blipFill>
            <a:blip r:embed="rId5"/>
            <a:stretch/>
          </p:blipFill>
          <p:spPr>
            <a:xfrm>
              <a:off x="7184880" y="3319560"/>
              <a:ext cx="165600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358040" y="5219640"/>
              <a:ext cx="130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Still only 0.05% of telecoms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095880" y="914400"/>
            <a:ext cx="2590920" cy="2396520"/>
            <a:chOff x="6095880" y="914400"/>
            <a:chExt cx="2590920" cy="2396520"/>
          </a:xfrm>
        </p:grpSpPr>
        <p:sp>
          <p:nvSpPr>
            <p:cNvPr id="241" name=""/>
            <p:cNvSpPr/>
            <p:nvPr/>
          </p:nvSpPr>
          <p:spPr>
            <a:xfrm>
              <a:off x="6095880" y="914400"/>
              <a:ext cx="2590920" cy="213372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10360" y="1022400"/>
              <a:ext cx="2362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here is hardly a business case for IP voice as a stand alone servic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072-23FA-4C29-A1C4-8FE465A10E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PVSTELECOMS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6989760" cy="5006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P and Telecom Value Dynamic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39880" y="1054080"/>
            <a:ext cx="7023240" cy="1313640"/>
            <a:chOff x="1739880" y="1054080"/>
            <a:chExt cx="7023240" cy="1313640"/>
          </a:xfrm>
        </p:grpSpPr>
        <p:sp>
          <p:nvSpPr>
            <p:cNvPr id="246" name=""/>
            <p:cNvSpPr/>
            <p:nvPr/>
          </p:nvSpPr>
          <p:spPr>
            <a:xfrm>
              <a:off x="1739880" y="1079280"/>
              <a:ext cx="6896160" cy="128268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90640" y="1054080"/>
              <a:ext cx="697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Arial"/>
                </a:rPr>
                <a:t>netpressure.com </a:t>
              </a:r>
              <a:r>
                <a:rPr b="0" lang="en-US" sz="2000" spc="-1" strike="noStrike">
                  <a:solidFill>
                    <a:srgbClr val="40458c"/>
                  </a:solidFill>
                  <a:latin typeface="Arial"/>
                </a:rPr>
                <a:t>predicts the present telco model will disappear by 2003,</a:t>
              </a:r>
              <a:br>
                <a:rPr sz="2000"/>
              </a:br>
              <a:r>
                <a:rPr b="0" lang="en-US" sz="2000" spc="-1" strike="noStrike">
                  <a:solidFill>
                    <a:srgbClr val="40458c"/>
                  </a:solidFill>
                  <a:latin typeface="Arial"/>
                </a:rPr>
                <a:t>bandwidth demand to reach US$1.85 trillion by 2005 due to content evolution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49160" y="5956200"/>
            <a:ext cx="515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Reference: M. Sessions, The Phillips Group, VON Europe 2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1D5-3824-41A9-8EEA-A845EAB602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Value of IP Commun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43000" y="1109520"/>
          <a:ext cx="716292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09520"/>
                    <a:ext cx="716292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600200" y="473220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58880" y="4732200"/>
            <a:ext cx="83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19360" y="4732200"/>
            <a:ext cx="838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79840" y="4732200"/>
            <a:ext cx="1295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97520" y="4732200"/>
            <a:ext cx="1295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4732200"/>
            <a:ext cx="12952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684440"/>
            <a:ext cx="3047760" cy="1554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integration of all Internet services is the killer 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304812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867280" y="236196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1752480"/>
            <a:ext cx="1447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mmercial quality voi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6067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79800" y="5973840"/>
            <a:ext cx="1066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and e-ma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39920" y="5605560"/>
            <a:ext cx="1524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tegrat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ice an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un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57600" y="6157800"/>
            <a:ext cx="1524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New servi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973840"/>
            <a:ext cx="1524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erci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6216480"/>
            <a:ext cx="15238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e-commer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263600"/>
            <a:ext cx="5029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IP mobility, location manager, caller preferences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162920" y="990720"/>
            <a:ext cx="45720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334120"/>
            <a:ext cx="289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ference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Jonathan Rosenberg/DynamicSof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AA9-DF97-4C68-9AB5-BFEEF0D6D3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lable Complexit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473220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8880" y="4732200"/>
            <a:ext cx="83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19360" y="4732200"/>
            <a:ext cx="838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9840" y="4732200"/>
            <a:ext cx="1295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97520" y="4732200"/>
            <a:ext cx="1295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4732200"/>
            <a:ext cx="12952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6067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9800" y="5973840"/>
            <a:ext cx="1066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and e-ma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5605560"/>
            <a:ext cx="1524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tegrat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ice an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un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6157800"/>
            <a:ext cx="1524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New servi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5973840"/>
            <a:ext cx="1524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erci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6216480"/>
            <a:ext cx="15238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e-commer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334120"/>
            <a:ext cx="289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ference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Jonathan Rosenberg/DynamicSof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7080" y="1233360"/>
            <a:ext cx="685476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7080" y="41385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7080" y="364968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7080" y="31687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7080" y="26859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7080" y="220500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7080" y="17161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7080" y="12333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7080" y="1233360"/>
            <a:ext cx="6854760" cy="33879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7080" y="46213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29708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44476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581280" y="4620960"/>
            <a:ext cx="180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72932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867280" y="4620960"/>
            <a:ext cx="180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01532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15184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870200" y="4429080"/>
            <a:ext cx="1137960" cy="92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008160" y="4230360"/>
            <a:ext cx="1148040" cy="19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56200" y="3847680"/>
            <a:ext cx="1136520" cy="38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292720" y="3068280"/>
            <a:ext cx="1147680" cy="779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9960" y="4495680"/>
            <a:ext cx="61920" cy="50760"/>
          </a:xfrm>
          <a:custGeom>
            <a:avLst/>
            <a:gdLst/>
            <a:ahLst/>
            <a:rect l="l" t="t" r="r" b="b"/>
            <a:pathLst>
              <a:path w="39" h="32">
                <a:moveTo>
                  <a:pt x="19" y="0"/>
                </a:moveTo>
                <a:lnTo>
                  <a:pt x="39" y="16"/>
                </a:lnTo>
                <a:lnTo>
                  <a:pt x="19" y="32"/>
                </a:lnTo>
                <a:lnTo>
                  <a:pt x="0" y="16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6480" y="440532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20" y="0"/>
                </a:moveTo>
                <a:lnTo>
                  <a:pt x="39" y="15"/>
                </a:lnTo>
                <a:lnTo>
                  <a:pt x="20" y="31"/>
                </a:lnTo>
                <a:lnTo>
                  <a:pt x="0" y="15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24160" y="4205160"/>
            <a:ext cx="61920" cy="50760"/>
          </a:xfrm>
          <a:custGeom>
            <a:avLst/>
            <a:gdLst/>
            <a:ahLst/>
            <a:rect l="l" t="t" r="r" b="b"/>
            <a:pathLst>
              <a:path w="39" h="32">
                <a:moveTo>
                  <a:pt x="20" y="0"/>
                </a:moveTo>
                <a:lnTo>
                  <a:pt x="39" y="16"/>
                </a:lnTo>
                <a:lnTo>
                  <a:pt x="20" y="32"/>
                </a:lnTo>
                <a:lnTo>
                  <a:pt x="0" y="16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62480" y="382428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19" y="0"/>
                </a:moveTo>
                <a:lnTo>
                  <a:pt x="39" y="15"/>
                </a:lnTo>
                <a:lnTo>
                  <a:pt x="19" y="31"/>
                </a:lnTo>
                <a:lnTo>
                  <a:pt x="0" y="15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10160" y="3043080"/>
            <a:ext cx="61920" cy="51120"/>
          </a:xfrm>
          <a:custGeom>
            <a:avLst/>
            <a:gdLst/>
            <a:ahLst/>
            <a:rect l="l" t="t" r="r" b="b"/>
            <a:pathLst>
              <a:path w="39" h="32">
                <a:moveTo>
                  <a:pt x="19" y="0"/>
                </a:moveTo>
                <a:lnTo>
                  <a:pt x="39" y="16"/>
                </a:lnTo>
                <a:lnTo>
                  <a:pt x="19" y="32"/>
                </a:lnTo>
                <a:lnTo>
                  <a:pt x="0" y="16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7040" y="150012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20" y="0"/>
                </a:moveTo>
                <a:lnTo>
                  <a:pt x="39" y="15"/>
                </a:lnTo>
                <a:lnTo>
                  <a:pt x="20" y="31"/>
                </a:lnTo>
                <a:lnTo>
                  <a:pt x="0" y="15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905120" y="3885840"/>
            <a:ext cx="6095880" cy="6094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147960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lexity of vertically integrated syste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479600"/>
            <a:ext cx="2590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lue of communic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411480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IETF featu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40400" y="1523520"/>
            <a:ext cx="1138320" cy="154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-761040" y="-1143360"/>
            <a:ext cx="533304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2819520"/>
            <a:ext cx="0" cy="13716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2819520"/>
            <a:ext cx="0" cy="12189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148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C24-B6F3-4B21-AA69-7E47F16917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ew: IP Commun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integration with the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Messaging (ex: sip message wait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nt messaging using any/all me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ller and called party prefer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ty call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xed Internet-PSTN servi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also emulate all PSTN IN/PBX features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051-34DF-4BC9-8EE3-EB0CCFF45B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Presence, Instant Messaging and Voic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129120" y="990720"/>
            <a:ext cx="1334880" cy="2361960"/>
          </a:xfrm>
          <a:prstGeom prst="rect">
            <a:avLst/>
          </a:prstGeom>
          <a:ln w="0">
            <a:noFill/>
          </a:ln>
        </p:spPr>
      </p:pic>
      <p:pic>
        <p:nvPicPr>
          <p:cNvPr id="327" name="invitations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817640" cy="2044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62120" y="6094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resence in proprietary commercial systems got the interest of the IETF IMMP W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9" name="chatcontrol" descr="HearMe VoicePresence screenshot"/>
          <p:cNvPicPr/>
          <p:nvPr/>
        </p:nvPicPr>
        <p:blipFill>
          <a:blip r:embed="rId3"/>
          <a:stretch/>
        </p:blipFill>
        <p:spPr>
          <a:xfrm>
            <a:off x="1011240" y="3200400"/>
            <a:ext cx="1655640" cy="2590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5013360" y="990720"/>
            <a:ext cx="1523880" cy="2361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7086600" y="990720"/>
            <a:ext cx="1630440" cy="2361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3824280" y="2209680"/>
            <a:ext cx="4405320" cy="3667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ttp://www.ietf.org/internet-drafts/draft-ietf-impp-model-03.tx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D80-F65D-4B19-8EAB-DED1849DFA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resence and Instant Communication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an be provided by SIP: 7 new I-Ds!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cation: office, home, travel,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state: ready, on another call (ID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llingness: available, in meeting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ferred medium: text, voice, video, e-ma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er prefere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p-on to an existing call – instant confer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phone state: online, with camp-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cation based screening: home/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com telephony: between trading de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 for any type of communications: S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not be provided by PSTN, H.323 or MEGACO/H.24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ECE-79CD-45E8-8A0C-B97AF47C5A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2:23:20Z</dcterms:created>
  <dc:creator>Henry Sinnreich</dc:creator>
  <dc:description/>
  <dc:language>en-US</dc:language>
  <cp:lastModifiedBy>Henry Sinnreich</cp:lastModifiedBy>
  <dcterms:modified xsi:type="dcterms:W3CDTF">2000-07-17T21:32:07Z</dcterms:modified>
  <cp:revision>15</cp:revision>
  <dc:subject/>
  <dc:title>Services and Call Flows for IP Telephony</dc:title>
</cp:coreProperties>
</file>